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691-9036-4873-900B-C60E5B6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B62-1739-4F7F-BDC1-252F77B6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374-2A2C-4E05-937A-7930D7A5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5A8-BC60-49B4-A93B-1EC8BE15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7947-4FDE-4F7A-9A80-2FDBB7E2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9BC-A796-4658-9386-C89AD87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05FC-1CF2-4CAF-934F-FAC163A9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616B-ECEF-435E-B2E9-A37B6B87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83CA-1793-4B9C-A16B-C10B968F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2E1B-E3D4-47A5-A5E7-D76871E8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3C4A-B617-468C-86F9-29835CFD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68E-9CAE-47C0-B1FC-9880FD91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529-E15B-44FB-9C96-A07A07C7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A335-FB36-43A8-B242-42F39DB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E9B-D883-4C4C-9433-B2E21148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911D-5B7D-4A09-9E6C-A5654DAF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A5EB-A36D-4418-8D1A-078DF9FD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8F393-52BA-4D46-A96B-AEFF9C34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9E5C5-5970-476C-9003-567A7D38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35AAA-1012-4E34-931E-E0FFF777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90806-C46D-4E87-9E2F-D0CBE65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2F658-0224-40EE-B2CC-9C5ACCE3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DAC-96E9-495B-B49E-F032AA9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C9183-CC2C-48F3-BD23-A75BBB6E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50BFB-1487-438A-9645-C8DDA501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9569C-B61B-426D-8D0D-8F53718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8ACEB-E220-4E8B-BAAE-382E7F1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2EFF4-4BCD-48DF-9407-9FCC499A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5B9EB-3830-4815-B57C-3F325227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C3D7F-4916-4CD8-BA60-048D8CCE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709F-34D3-4D79-A76D-9259C8E2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2243-BBA2-42CB-849A-E1B35A5A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D96F-859E-49F0-AE80-4EFCB5D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FF5-8125-4816-986A-4DFD7F6B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E664-E645-48E2-BA63-6454EDC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5FED-C70C-4E47-BD95-C0BA1427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0752-146C-4AFC-82AE-A10D43E6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BC7C-82A6-4505-B01A-28979B5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0FD4-8A98-4BEC-BF6B-052868B5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5BCC-A7B6-40F3-BF42-8269566D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595F-F3FC-4D34-B65D-0AF849F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7341F-69B6-421F-8BBE-CAD26442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8732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381480"/>
            <a:ext cx="264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8CF6-A8F0-4500-AC57-4A6EEDD6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F26-27DF-4996-B251-C564E192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8B7-B989-4D9F-A41C-C555AE38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CF6-31A7-447F-946D-5C11207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38148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DC4-03EF-4153-BB78-D6951D0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87320"/>
            <a:ext cx="40158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381480"/>
            <a:ext cx="8229600" cy="15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004-2DCB-4907-83CD-6239CF0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256-7694-4280-8B79-2BEED369694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285660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2922120"/>
            <a:ext cx="3733920" cy="1447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3085560"/>
            <a:ext cx="3733920" cy="612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3122640"/>
            <a:ext cx="1965600" cy="1440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3149640"/>
            <a:ext cx="1965600" cy="648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2971800"/>
            <a:ext cx="3063960" cy="2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3046320"/>
            <a:ext cx="160020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2736720"/>
            <a:ext cx="9144000" cy="1843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2755800"/>
            <a:ext cx="9144000" cy="1065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2731680"/>
            <a:ext cx="2730600" cy="1872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27766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3153960"/>
            <a:ext cx="9604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3153960"/>
            <a:ext cx="12956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26C9-6BD9-4CB9-A92F-CEFBEC02911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68DB-8A85-4AC4-8830-3A13C3BE420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274680"/>
            <a:ext cx="9144000" cy="633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2332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231840"/>
            <a:ext cx="914400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268920"/>
            <a:ext cx="3733920" cy="6804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329040"/>
            <a:ext cx="3733920" cy="135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372960"/>
            <a:ext cx="3063600" cy="20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441360"/>
            <a:ext cx="1600200" cy="2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4665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466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466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439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43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873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03600" indent="-2142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55600" indent="-1954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61160" indent="-1789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61160" indent="-1789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458280"/>
            <a:ext cx="9572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458280"/>
            <a:ext cx="132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A0EA-E27C-4B53-A50F-BD4C89BA57F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7"/>
          <p:cNvSpPr/>
          <p:nvPr/>
        </p:nvSpPr>
        <p:spPr>
          <a:xfrm>
            <a:off x="119160" y="411120"/>
            <a:ext cx="89265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овое в антикоррупционном законодательстве Российской Федерации.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екоторые аспекты практики 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его применения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18160" y="3292560"/>
            <a:ext cx="40305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Tahoma"/>
              </a:rPr>
              <a:t>Кругленя Анна Николаевна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24456"/>
                </a:solidFill>
                <a:latin typeface="Tahoma"/>
              </a:rPr>
              <a:t>Управление Президента Российской Федерации по вопросам противодействия коррупции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Инициатива «на выходе»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841F-8878-4D01-B336-68107E2CC7A2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есение изменений в порядок привлечения государственных и муниципальных служащих к ответственности за совершение коррупционных правонаруш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611280" y="1924200"/>
            <a:ext cx="79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упрощенный порядок» применения взысканий за коррупционные правонару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ая «формула» расчета сроков применения взыска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применения взыскания в виде замечания при малозначительности совершенного коррупционного правонарушения без рекомендации комиссии по урегулированию конфликта интерес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24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Организация антикоррупционной работы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917F-93A3-49AC-9D20-8669E29DA91C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382680" y="120348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мочия органа субъекта Российской Федерации по профилактике коррупционных и иных правонарушений по проведению антикоррупционных проверок в отношении лиц, замещающих государственные должности субъекта Российской Федерации (для которых федеральными законами не предусмотрено иное), и государственных гражданских служащих субъекта Российской Федерации (в т.ч. аппаратов избирательных комиссий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арантии организационной и функциональной независимости антикоррупционных структур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ышение квалификации работн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аны по противодействию корруп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24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екоторые аспекты содержания антикоррупционной работы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3A19-D318-4812-8EE1-78C2D403527D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345960" y="1276200"/>
            <a:ext cx="865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явление и урегулирование конфликта интересов (в том числе скрытой аффилированности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матизация работы со сведениями о доход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домление о склонении к совершению коррупционного правонару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домление о получении подар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заимодействие с гражданским обществ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539640" y="350820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тная связ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мониторинг проведения антикоррупционной работ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убъектах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3132000" y="422604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60D-AB08-49AE-A275-16B9994A86EF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Скругленный прямоугольник 3"/>
          <p:cNvSpPr/>
          <p:nvPr/>
        </p:nvSpPr>
        <p:spPr>
          <a:xfrm>
            <a:off x="954000" y="2139840"/>
            <a:ext cx="7058160" cy="13683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лен ЦИК России, член избирательной комиссии субъекта РФ, член иной избирательной комиссии (с правом решающего голос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работающий на постоянной (штатной) основе) обязаны соблюдать ограничения, запреты, исполнять обязанности, установленные законодательством в сфере противодействия корруп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95280" y="9874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1. В Федеральном законе «Об основных гарантиях избирательных прав и права на участие в референдуме» уточнены антикоррупционные стандарты для членов избирательных комисс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961920" y="3706920"/>
            <a:ext cx="7056720" cy="7920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соблюдение указанных ограничений и запретов, неисполнение обязанностей влечет освобождение данных лиц от должност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8614-7DA1-49C8-B765-AA540A475540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2. Регламентирован порядок представления сведений о доходах, об имуществе и обязательствах имущественного характера для ряда кандидатов на долж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Скругленный прямоугольник 6"/>
          <p:cNvSpPr/>
          <p:nvPr/>
        </p:nvSpPr>
        <p:spPr>
          <a:xfrm>
            <a:off x="468360" y="1708200"/>
            <a:ext cx="7991280" cy="15112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2.1. Если иное не установлено федеральным законом,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граждане, претендующие на замещени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муниципальной должност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едставляют сведения о доходах высшему должностному лицу субъекта Российской Федерации в порядке, установленном законом субъекта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 его же решению осуществляется проверка данных свед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пп.4.2 и 4.4 ст.12.1 Федерального закона «О противодействии коррупци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Скругленный прямоугольник 2"/>
          <p:cNvSpPr/>
          <p:nvPr/>
        </p:nvSpPr>
        <p:spPr>
          <a:xfrm>
            <a:off x="612720" y="3519360"/>
            <a:ext cx="2016360" cy="1150920"/>
          </a:xfrm>
          <a:prstGeom prst="roundRect">
            <a:avLst>
              <a:gd name="adj" fmla="val 16667"/>
            </a:avLst>
          </a:pr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андида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депутаты представительного органа 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Скругленный прямоугольник 9"/>
          <p:cNvSpPr/>
          <p:nvPr/>
        </p:nvSpPr>
        <p:spPr>
          <a:xfrm>
            <a:off x="5086440" y="3508200"/>
            <a:ext cx="3373200" cy="1151280"/>
          </a:xfrm>
          <a:prstGeom prst="roundRect">
            <a:avLst>
              <a:gd name="adj" fmla="val 16667"/>
            </a:avLst>
          </a:pr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етенденты на должность главы  МО, избираемые представительным органом МО из числа кандидатов, представленных конкурсной комисси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Скругленный прямоугольник 10"/>
          <p:cNvSpPr/>
          <p:nvPr/>
        </p:nvSpPr>
        <p:spPr>
          <a:xfrm>
            <a:off x="3433680" y="3575160"/>
            <a:ext cx="792360" cy="10843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1084320"/>
              <a:gd name="textAreaBottom" fmla="*/ 1045800 h 1084320"/>
            </a:gdLst>
            <a:ahLst/>
            <a:rect l="textAreaLeft" t="textAreaTop" r="textAreaRight" b="textAreaBottom"/>
            <a:pathLst>
              <a:path w="21600" h="29555">
                <a:moveTo>
                  <a:pt x="3600" y="0"/>
                </a:moveTo>
                <a:arcTo wR="3600" hR="3600" stAng="16200000" swAng="-5400000"/>
                <a:lnTo>
                  <a:pt x="0" y="25955"/>
                </a:lnTo>
                <a:arcTo wR="3600" hR="3600" stAng="10800000" swAng="-5400000"/>
                <a:lnTo>
                  <a:pt x="18000" y="29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bc0a7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Д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____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Стрелка вправо 7"/>
          <p:cNvSpPr/>
          <p:nvPr/>
        </p:nvSpPr>
        <p:spPr>
          <a:xfrm>
            <a:off x="2660760" y="4118040"/>
            <a:ext cx="758880" cy="3585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Стрелка вправо 12"/>
          <p:cNvSpPr/>
          <p:nvPr/>
        </p:nvSpPr>
        <p:spPr>
          <a:xfrm rot="10800000">
            <a:off x="4225680" y="3760560"/>
            <a:ext cx="866520" cy="3603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42B-4E90-4419-B7E0-1598D68459A9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587520" y="1492200"/>
            <a:ext cx="7897680" cy="18734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2.2. Г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ждане, претендующие на замещение должност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главы местной администрации по контракту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, представляет сведения о доходах высшему должностному лицу субъекта Российской Федерации в порядке, установленном законом субъекта Российской Федерации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часть 8 статьи 15 Федерального закона «О муниципальной службе в Российской Федерации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22360" y="37958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 конкурсную комиссию соответствующего муниципального образования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8316-1CBF-459D-AF98-CAB2FE15FB55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08000" y="9874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3. Скорректирован подход к запрету на участие в управлении некоммерческими организац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128520" y="1652760"/>
            <a:ext cx="8713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Разреша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политической партией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съезде (конференции) или общем собрании общественной организации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жилищном, жилищно-строительном, гаражном кооперативах, садоводческом, огородническом, дачном потребительских кооперативах, товариществе собственников недвижимости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на безвозмездной основе в управлении вышеуказанными некоммерческими организациями (кроме политической партии) в качестве единоличного исполнительного органа или вхождения в состав их коллегиальных органов управления с разрешения представителя нанимателя в порядке, установленном нормативным правовым актом государственного органа либо муниципальным правовым актом (для государственных и муниципальных служащих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советом муниципальных образований субъекта Российской Федерации, иными объединениями муниципальных образований (для государственных и муниципальных должностей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- участвовать в управлении некоммерческой организацией в случаях, предусмотренных федеральными законами, или в соответствии с законодательством Российской Федерации от имени государственного органа или органа местного самоуправления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3965-2075-4B08-97D3-2B558EB24DE1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08000" y="98748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4. Регламентировано содержание анализа сведений о доходах, об имуществе и обязательствах имущественного характера, а также сведений о соблюдении требований, установленных в целях противодействия корруп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Скругленный прямоугольник 2"/>
          <p:cNvSpPr/>
          <p:nvPr/>
        </p:nvSpPr>
        <p:spPr>
          <a:xfrm>
            <a:off x="684360" y="2614680"/>
            <a:ext cx="2016000" cy="9381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оведение бесед с гражданами и служащими с их соглас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Скругленный прямоугольник 11"/>
          <p:cNvSpPr/>
          <p:nvPr/>
        </p:nvSpPr>
        <p:spPr>
          <a:xfrm>
            <a:off x="3276720" y="2112840"/>
            <a:ext cx="2089080" cy="12240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ение от граждан и служащих с их согласия необходимых поясне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Скругленный прямоугольник 13"/>
          <p:cNvSpPr/>
          <p:nvPr/>
        </p:nvSpPr>
        <p:spPr>
          <a:xfrm>
            <a:off x="6012000" y="2492280"/>
            <a:ext cx="2706480" cy="168912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ение от государственных органов и органов местного самоуправления, а также организаций необходимой информации (кроме составляющей охраняемую законом тайну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Скругленный прямоугольник 14"/>
          <p:cNvSpPr/>
          <p:nvPr/>
        </p:nvSpPr>
        <p:spPr>
          <a:xfrm>
            <a:off x="3276720" y="3508200"/>
            <a:ext cx="2160360" cy="122580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представленных пояснений и полученной информац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35FE-55E7-4CF4-B489-A95186822ACB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108000" y="9874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5. Регламентирован срок направления сведений о доходах, расходах,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 имуществе и обязательствах имущ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Скругленный прямоугольник 9"/>
          <p:cNvSpPr/>
          <p:nvPr/>
        </p:nvSpPr>
        <p:spPr>
          <a:xfrm>
            <a:off x="755640" y="1779480"/>
            <a:ext cx="7800840" cy="2592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становлен 10-дневный срок, в течение которого кадровая служба федерального государственного органа направляет сведения о доходах в Управление Президента Российской Федерации по вопросам противодействия коррупции / подразделение Аппарата Правительств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(пункт 7 Положения, утвержденного Указом Президента Российской Федерации от 18 мая 2009 г. № 5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7ED2-4FBB-42F0-9DAF-FEA0A788565C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08000" y="9874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6. Установлены требования к содержанию мотивированных заключений, которые готовятся антикоррупционным подразделением по итогам рассмотрения поступивших обращений и уведомл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Скругленный прямоугольник 2"/>
          <p:cNvSpPr/>
          <p:nvPr/>
        </p:nvSpPr>
        <p:spPr>
          <a:xfrm>
            <a:off x="539640" y="2284560"/>
            <a:ext cx="2303640" cy="110808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нформация, изложенная в поступивших обращениях и уведомления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5508720" y="1778040"/>
            <a:ext cx="2663640" cy="250812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мотивированный вывод по результатам предварительного рассмотрения обращений и уведомлений, а также рекомендация для принятия комиссией по соблюдению требований к служебному поведению и урегулированию конфликта конкретного реш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Скругленный прямоугольник 14"/>
          <p:cNvSpPr/>
          <p:nvPr/>
        </p:nvSpPr>
        <p:spPr>
          <a:xfrm>
            <a:off x="3059280" y="2838600"/>
            <a:ext cx="2160360" cy="1944360"/>
          </a:xfrm>
          <a:prstGeom prst="roundRect">
            <a:avLst>
              <a:gd name="adj" fmla="val 16667"/>
            </a:avLst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нформация, полученная от государственных органов, органов местного самоуправления и заинтересованных организаций на основании запрос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8000" y="555480"/>
            <a:ext cx="8578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Новое в антикоррупционном законодательстве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Номер слайда 1"/>
          <p:cNvSpPr/>
          <p:nvPr/>
        </p:nvSpPr>
        <p:spPr>
          <a:xfrm>
            <a:off x="8174160" y="144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BB5E-324A-450D-9ABD-E0C973DEFBA6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08000" y="98748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7. В форму справки о доходах, расходах, об имуществе и обязательствах имущественного характера внесен раздел 7, в котором должны найти отражение сведения о недвижимом имуществе, транспортных средствах и ценных бумагах, отчужденных в течение отчетного периода в результате безвозмездной сдел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Скругленный прямоугольник 9"/>
          <p:cNvSpPr/>
          <p:nvPr/>
        </p:nvSpPr>
        <p:spPr>
          <a:xfrm>
            <a:off x="539640" y="2571840"/>
            <a:ext cx="7993080" cy="1728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екомендации по его заполнению содержатся в подготовл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интрудом России Методических рекомендациях по вопросам представления сведений о доходах, расходах, об имуществе и обязательствах имущественного характера и заполнения соответствующей формы справки в 2018 год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(за отчетный 2017 год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8:13:36Z</dcterms:created>
  <dc:creator>Аня</dc:creator>
  <dc:description/>
  <dc:language>en-US</dc:language>
  <cp:lastModifiedBy> </cp:lastModifiedBy>
  <cp:lastPrinted>2017-12-06T16:02:24Z</cp:lastPrinted>
  <dcterms:modified xsi:type="dcterms:W3CDTF">2017-12-07T05:48:48Z</dcterms:modified>
  <cp:revision>164</cp:revision>
  <dc:subject/>
  <dc:title>Слайд 1</dc:title>
</cp:coreProperties>
</file>