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5145088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6E02-2C80-4B2F-9333-BFC0521F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C3C-89A5-4F96-92A3-06A03A7A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746-BF8D-470C-89B7-0969C2F4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72EE-5293-48BE-BF44-824F90BB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DB5E-C4D9-413C-8DDF-F4945B92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7F5C-7BB6-4E09-B244-C1B1EBD6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761A-063F-45AF-A6A8-476208C7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962B-5924-41BC-8438-CA9736A7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AAB2-4342-4F58-9F75-F49E0C4B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856800"/>
            <a:ext cx="82296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EB2B-0DEE-4B7F-BD3A-B6551F8C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FCD5-DD06-42D4-8EFA-93B59DFC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4722-1BB3-4447-8255-877CF70A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7B5B-E381-4FCD-BE83-AD614F55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7980-87F6-4830-A4E1-7DC32839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1D17-4AB7-4093-81F8-B68F0CDA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5826-919F-4382-A6AC-AA06F12A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6A64-3B9E-427B-905F-296B4F20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B3577-F561-497E-B62C-C83ECCF4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10DF7-6FC4-4581-BED8-BAE946C7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E03CD-FC8C-4AC8-B3AD-26593C5A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3D693-3476-4187-9612-CDE54A9B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F7831-0011-4AB8-A03F-C738901D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368-006A-4618-9888-5E44AC0D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856800"/>
            <a:ext cx="82296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A4D94-541E-45D1-B34D-084F0799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011B8-2956-42E3-B4C4-72E76E46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F0263-F7EC-4DC1-ABEA-6DB221F2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5AA82-AC6C-4B02-BD7D-8D0783B7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8CBC6-8ED4-4AA6-AF06-6ACB7FA1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63403-1549-4E65-B152-0B8790D6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2866B-4851-4DD2-AEC7-60E15807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A7A41-5282-4AA3-8503-48CA4020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1FF79-C89B-478F-BE85-39CCCEA8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0703C-D894-458C-990B-5358ACAE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15CA-420A-4A1C-BFAF-0742BB79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DB753-B7A4-4B58-9157-652F0A99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6C529-503F-46B9-B093-6FD5C22E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856800"/>
            <a:ext cx="82296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A0B14-AA6E-48E5-8D26-0497F659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D56B9-5184-4A2E-B899-6ADA830B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421A9-77EB-41C2-A87A-55F1A352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B1F60-ACB5-4A46-83AF-8B1F044A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22188-4A70-4DA2-A8C8-5686F618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0464B-F598-40E6-8021-C06EA355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30323-0339-488E-9FC2-AD7FDA45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576-863D-4323-8023-87465C72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856800"/>
            <a:ext cx="82296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64F-8646-485F-AFB0-61E566C0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7F9-DE83-48AE-A64C-547D5F4F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22E-6D65-41BC-AE1E-4FB5E353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0E9-3326-40BB-8C8C-CC0BCFAF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274680"/>
            <a:ext cx="9144000" cy="6336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2332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231840"/>
            <a:ext cx="9144000" cy="6804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268920"/>
            <a:ext cx="3733920" cy="6804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329040"/>
            <a:ext cx="3733920" cy="13500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372960"/>
            <a:ext cx="3063600" cy="20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441360"/>
            <a:ext cx="1600200" cy="28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4665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4665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466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4665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4395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439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03600" indent="-2142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55600" indent="-1954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61160" indent="-17892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458280"/>
            <a:ext cx="9572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458280"/>
            <a:ext cx="1325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147A-B23A-4FE2-B5F8-0938EEFB913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2856600"/>
            <a:ext cx="3733920" cy="6804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2922120"/>
            <a:ext cx="3733920" cy="14472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3085560"/>
            <a:ext cx="3733920" cy="612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3122640"/>
            <a:ext cx="1965600" cy="1440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3149640"/>
            <a:ext cx="1965600" cy="648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2971800"/>
            <a:ext cx="3063960" cy="20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3046320"/>
            <a:ext cx="160020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2736720"/>
            <a:ext cx="9144000" cy="18432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2755800"/>
            <a:ext cx="9144000" cy="1065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2731680"/>
            <a:ext cx="2730600" cy="1872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27766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03600" indent="-2142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55600" indent="-1954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61160" indent="-17892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3153960"/>
            <a:ext cx="9604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3153960"/>
            <a:ext cx="12956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877D-A99C-4E9E-A283-47C00710DB7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274680"/>
            <a:ext cx="9144000" cy="6336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2332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231840"/>
            <a:ext cx="9144000" cy="6804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268920"/>
            <a:ext cx="3733920" cy="6804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329040"/>
            <a:ext cx="3733920" cy="13500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372960"/>
            <a:ext cx="3063600" cy="20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441360"/>
            <a:ext cx="1600200" cy="28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4665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4665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466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4665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4395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439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03600" indent="-2142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55600" indent="-1954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61160" indent="-17892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458280"/>
            <a:ext cx="9572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E531-E1A4-4725-9865-233EA67548F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458280"/>
            <a:ext cx="1325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274680"/>
            <a:ext cx="9144000" cy="6336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2332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231840"/>
            <a:ext cx="9144000" cy="6804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268920"/>
            <a:ext cx="3733920" cy="6804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329040"/>
            <a:ext cx="3733920" cy="13500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372960"/>
            <a:ext cx="3063600" cy="20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441360"/>
            <a:ext cx="1600200" cy="28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4665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4665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466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4665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4395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439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03600" indent="-2142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55600" indent="-1954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61160" indent="-17892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458280"/>
            <a:ext cx="9572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458280"/>
            <a:ext cx="1325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63F7-A377-4E8C-B5B8-13C9736DE4F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7"/>
          <p:cNvSpPr/>
          <p:nvPr/>
        </p:nvSpPr>
        <p:spPr>
          <a:xfrm>
            <a:off x="119160" y="411120"/>
            <a:ext cx="89265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Новое в антикоррупционном законодательстве Российской Федерации. 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Некоторые аспекты практики 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его применения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718160" y="3292560"/>
            <a:ext cx="40305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24456"/>
                </a:solidFill>
                <a:latin typeface="Tahoma"/>
              </a:rPr>
              <a:t>Кругленя Анна Николаевна,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24456"/>
                </a:solidFill>
                <a:latin typeface="Tahoma"/>
              </a:rPr>
              <a:t>Управление Президента Российской Федерации по вопросам противодействия коррупции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Инициатива «на выходе»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261A-A409-4D2A-822F-B0060A9CBB36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108000" y="98748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несение изменений в порядок привлечения государственных и муниципальных служащих к ответственности за совершение коррупционных правонаруше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611280" y="1924200"/>
            <a:ext cx="792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упрощенный порядок» применения взысканий за коррупционные правонаруше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диная «формула» расчета сроков применения взысканий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можность применения взыскания в виде замечания при малозначительности совершенного коррупционного правонарушения без рекомендации комиссии по урегулированию конфликта интерес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124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Организация антикоррупционной работы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EEFB-1EB7-40C4-9947-A89997492E6C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382680" y="1203480"/>
            <a:ext cx="842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номочия органа субъекта Российской Федерации по профилактике коррупционных и иных правонарушений по проведению антикоррупционных проверок в отношении лиц, замещающих государственные должности субъекта Российской Федерации (для которых федеральными законами не предусмотрено иное), и государственных гражданских служащих субъекта Российской Федерации (в т.ч. аппаратов избирательных комиссий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арантии организационной и функциональной независимости антикоррупционных структур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вышение квалификации работник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ланы по противодействию корруп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24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екоторые аспекты содержания антикоррупционной работы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F84D-86EC-46E0-A81D-26ADC876972E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345960" y="1276200"/>
            <a:ext cx="865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явление и урегулирование конфликта интересов (в том числе скрытой аффилированности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втоматизация работы со сведениями о доходах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ведомление о склонении к совершению коррупционного правонаруше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ведомление о получении подарк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заимодействие с гражданским обществ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539640" y="3508200"/>
            <a:ext cx="826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ратная связь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– мониторинг проведения антикоррупционной работы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субъектах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3132000" y="4226040"/>
            <a:ext cx="32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rebuchet MS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3A2A-0144-4D8D-9D3C-1EDF33791665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Скругленный прямоугольник 3"/>
          <p:cNvSpPr/>
          <p:nvPr/>
        </p:nvSpPr>
        <p:spPr>
          <a:xfrm>
            <a:off x="954000" y="2139840"/>
            <a:ext cx="7058160" cy="136836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член ЦИК России, член избирательной комиссии субъекта РФ, член иной избирательной комиссии (с правом решающего голос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 работающий на постоянной (штатной) основе) обязаны соблюдать ограничения, запреты, исполнять обязанности, установленные законодательством в сфере противодействия коррупци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395280" y="98748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1. В Федеральном законе «Об основных гарантиях избирательных прав и права на участие в референдуме» уточнены антикоррупционные стандарты для членов избирательных комисс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Скругленный прямоугольник 8"/>
          <p:cNvSpPr/>
          <p:nvPr/>
        </p:nvSpPr>
        <p:spPr>
          <a:xfrm>
            <a:off x="961920" y="3706920"/>
            <a:ext cx="7056720" cy="79200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соблюдение указанных ограничений и запретов, неисполнение обязанностей влечет освобождение данных лиц от должносте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22AB-C43D-4BD6-A236-1FBC58FA753E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108000" y="98748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2. Регламентирован порядок представления сведений о доходах, об имуществе и обязательствах имущественного характера для ряда кандидатов на долж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Скругленный прямоугольник 6"/>
          <p:cNvSpPr/>
          <p:nvPr/>
        </p:nvSpPr>
        <p:spPr>
          <a:xfrm>
            <a:off x="468360" y="1708200"/>
            <a:ext cx="7991280" cy="15112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2.1. Если иное не установлено федеральным законом,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граждане, претендующие на замещение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муниципальной должности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, представляют сведения о доходах высшему должностному лицу субъекта Российской Федерации в порядке, установленном законом субъекта Российской Федераци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 его же решению осуществляется проверка данных сведени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(пп.4.2 и 4.4 ст.12.1 Федерального закона «О противодействии коррупци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Скругленный прямоугольник 2"/>
          <p:cNvSpPr/>
          <p:nvPr/>
        </p:nvSpPr>
        <p:spPr>
          <a:xfrm>
            <a:off x="612720" y="3519360"/>
            <a:ext cx="2016360" cy="1150920"/>
          </a:xfrm>
          <a:prstGeom prst="roundRect">
            <a:avLst>
              <a:gd name="adj" fmla="val 16667"/>
            </a:avLst>
          </a:prstGeom>
          <a:solidFill>
            <a:srgbClr val="ebc0a7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кандидаты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 депутаты представительного органа М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Скругленный прямоугольник 9"/>
          <p:cNvSpPr/>
          <p:nvPr/>
        </p:nvSpPr>
        <p:spPr>
          <a:xfrm>
            <a:off x="5086440" y="3508200"/>
            <a:ext cx="3373200" cy="1151280"/>
          </a:xfrm>
          <a:prstGeom prst="roundRect">
            <a:avLst>
              <a:gd name="adj" fmla="val 16667"/>
            </a:avLst>
          </a:prstGeom>
          <a:solidFill>
            <a:srgbClr val="ebc0a7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етенденты на должность главы  МО, избираемые представительным органом МО из числа кандидатов, представленных конкурсной комисси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Скругленный прямоугольник 10"/>
          <p:cNvSpPr/>
          <p:nvPr/>
        </p:nvSpPr>
        <p:spPr>
          <a:xfrm>
            <a:off x="3433680" y="3575160"/>
            <a:ext cx="792360" cy="108432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084320"/>
              <a:gd name="textAreaBottom" fmla="*/ 1045800 h 1084320"/>
            </a:gdLst>
            <a:ahLst/>
            <a:rect l="textAreaLeft" t="textAreaTop" r="textAreaRight" b="textAreaBottom"/>
            <a:pathLst>
              <a:path w="21600" h="29555">
                <a:moveTo>
                  <a:pt x="3600" y="0"/>
                </a:moveTo>
                <a:arcTo wR="3600" hR="3600" stAng="16200000" swAng="-5400000"/>
                <a:lnTo>
                  <a:pt x="0" y="25955"/>
                </a:lnTo>
                <a:arcTo wR="3600" hR="3600" stAng="10800000" swAng="-5400000"/>
                <a:lnTo>
                  <a:pt x="18000" y="29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bc0a7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Д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____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Стрелка вправо 7"/>
          <p:cNvSpPr/>
          <p:nvPr/>
        </p:nvSpPr>
        <p:spPr>
          <a:xfrm>
            <a:off x="2660760" y="4118040"/>
            <a:ext cx="758880" cy="35856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d9d9d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Стрелка вправо 12"/>
          <p:cNvSpPr/>
          <p:nvPr/>
        </p:nvSpPr>
        <p:spPr>
          <a:xfrm rot="10800000">
            <a:off x="4225680" y="3760560"/>
            <a:ext cx="866520" cy="3603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d9d9d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3190-9350-45DB-AF52-DA29910E6ED2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Скругленный прямоугольник 6"/>
          <p:cNvSpPr/>
          <p:nvPr/>
        </p:nvSpPr>
        <p:spPr>
          <a:xfrm>
            <a:off x="587520" y="1492200"/>
            <a:ext cx="7897680" cy="18734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2.2. Г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ждане, претендующие на замещение должности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главы местной администрации по контракту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, представляет сведения о доходах высшему должностному лицу субъекта Российской Федерации в порядке, установленном законом субъекта Российской Федерации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(часть 8 статьи 15 Федерального закона «О муниципальной службе в Российской Федерации»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522360" y="37958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В конкурсную комиссию соответствующего муниципального образования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8822-A1DC-4DE1-B393-67CAEB1013FD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108000" y="9874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3. Скорректирован подход к запрету на участие в управлении некоммерческими организация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128520" y="1652760"/>
            <a:ext cx="87138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0000"/>
                </a:solidFill>
                <a:latin typeface="Tahoma"/>
              </a:rPr>
              <a:t>Разрешается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- участвовать в управлении политической партией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- участвовать в съезде (конференции) или общем собрании общественной организации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- участвовать в жилищном, жилищно-строительном, гаражном кооперативах, садоводческом, огородническом, дачном потребительских кооперативах, товариществе собственников недвижимости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- участвовать на безвозмездной основе в управлении вышеуказанными некоммерческими организациями (кроме политической партии) в качестве единоличного исполнительного органа или вхождения в состав их коллегиальных органов управления с разрешения представителя нанимателя в порядке, установленном нормативным правовым актом государственного органа либо муниципальным правовым актом (для государственных и муниципальных служащих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- участвовать в управлении советом муниципальных образований субъекта Российской Федерации, иными объединениями муниципальных образований (для государственных и муниципальных должностей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- участвовать в управлении некоммерческой организацией в случаях, предусмотренных федеральными законами, или в соответствии с законодательством Российской Федерации от имени государственного органа или органа местного самоуправления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DA0E-6729-4A56-BC7E-D5254394EE3D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108000" y="98748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4. Регламентировано содержание анализа сведений о доходах, об имуществе и обязательствах имущественного характера, а также сведений о соблюдении требований, установленных в целях противодействия корруп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Скругленный прямоугольник 2"/>
          <p:cNvSpPr/>
          <p:nvPr/>
        </p:nvSpPr>
        <p:spPr>
          <a:xfrm>
            <a:off x="684360" y="2614680"/>
            <a:ext cx="2016000" cy="93816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оведение бесед с гражданами и служащими с их соглас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Скругленный прямоугольник 11"/>
          <p:cNvSpPr/>
          <p:nvPr/>
        </p:nvSpPr>
        <p:spPr>
          <a:xfrm>
            <a:off x="3276720" y="2112840"/>
            <a:ext cx="2089080" cy="122400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лучение от граждан и служащих с их согласия необходимых пояснени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Скругленный прямоугольник 13"/>
          <p:cNvSpPr/>
          <p:nvPr/>
        </p:nvSpPr>
        <p:spPr>
          <a:xfrm>
            <a:off x="6012000" y="2492280"/>
            <a:ext cx="2706480" cy="168912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лучение от государственных органов и органов местного самоуправления, а также организаций необходимой информации (кроме составляющей охраняемую законом тайну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Скругленный прямоугольник 14"/>
          <p:cNvSpPr/>
          <p:nvPr/>
        </p:nvSpPr>
        <p:spPr>
          <a:xfrm>
            <a:off x="3276720" y="3508200"/>
            <a:ext cx="2160360" cy="122580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изучение представленных пояснений и полученной информац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C1CE-82FB-4981-AA5A-F551D6DC91E3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108000" y="9874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5. Регламентирован срок направления сведений о доходах, расходах, </a:t>
            </a: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об имуществе и обязательствах имущественного характе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Скругленный прямоугольник 9"/>
          <p:cNvSpPr/>
          <p:nvPr/>
        </p:nvSpPr>
        <p:spPr>
          <a:xfrm>
            <a:off x="755640" y="1779480"/>
            <a:ext cx="7800840" cy="2592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Установлен 10-дневный срок, в течение которого кадровая служба федерального государственного органа направляет сведения о доходах в Управление Президента Российской Федерации по вопросам противодействия коррупции / подразделение Аппарата Правительства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(пункт 7 Положения, утвержденного Указом Президента Российской Федерации от 18 мая 2009 г. № 5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1663-0848-482F-B445-6345A4EFBEC0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08000" y="98748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6. Установлены требования к содержанию мотивированных заключений, которые готовятся антикоррупционным подразделением по итогам рассмотрения поступивших обращений и уведомле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Скругленный прямоугольник 2"/>
          <p:cNvSpPr/>
          <p:nvPr/>
        </p:nvSpPr>
        <p:spPr>
          <a:xfrm>
            <a:off x="539640" y="2284560"/>
            <a:ext cx="2303640" cy="110808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информация, изложенная в поступивших обращениях и уведомлениях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Скругленный прямоугольник 13"/>
          <p:cNvSpPr/>
          <p:nvPr/>
        </p:nvSpPr>
        <p:spPr>
          <a:xfrm>
            <a:off x="5508720" y="1778040"/>
            <a:ext cx="2663640" cy="250812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мотивированный вывод по результатам предварительного рассмотрения обращений и уведомлений, а также рекомендация для принятия комиссией по соблюдению требований к служебному поведению и урегулированию конфликта конкретного реш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Скругленный прямоугольник 14"/>
          <p:cNvSpPr/>
          <p:nvPr/>
        </p:nvSpPr>
        <p:spPr>
          <a:xfrm>
            <a:off x="3059280" y="2838600"/>
            <a:ext cx="2160360" cy="194436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информация, полученная от государственных органов, органов местного самоуправления и заинтересованных организаций на основании запросов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E080-5058-42D3-BE2D-149121F97520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108000" y="987480"/>
            <a:ext cx="88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7. В форму справки о доходах, расходах, об имуществе и обязательствах имущественного характера внесен раздел 7, в котором должны найти отражение сведения о недвижимом имуществе, транспортных средствах и ценных бумагах, отчужденных в течение отчетного периода в результате безвозмездной сдел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Скругленный прямоугольник 9"/>
          <p:cNvSpPr/>
          <p:nvPr/>
        </p:nvSpPr>
        <p:spPr>
          <a:xfrm>
            <a:off x="539640" y="2571840"/>
            <a:ext cx="7993080" cy="1728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екомендации по его заполнению содержатся в подготовленных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Минтрудом России Методических рекомендациях по вопросам представления сведений о доходах, расходах, об имуществе и обязательствах имущественного характера и заполнения соответствующей формы справки в 2018 году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(за отчетный 2017 год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8T18:13:36Z</dcterms:created>
  <dc:creator>Аня</dc:creator>
  <dc:description/>
  <dc:language>en-US</dc:language>
  <cp:lastModifiedBy> </cp:lastModifiedBy>
  <cp:lastPrinted>2017-12-06T16:02:24Z</cp:lastPrinted>
  <dcterms:modified xsi:type="dcterms:W3CDTF">2017-12-07T05:48:48Z</dcterms:modified>
  <cp:revision>164</cp:revision>
  <dc:subject/>
  <dc:title>Слайд 1</dc:title>
</cp:coreProperties>
</file>