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5145088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2D834-D111-4460-A1B7-9745F8799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856800"/>
            <a:ext cx="8229600" cy="8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87320"/>
            <a:ext cx="8229600" cy="15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3381480"/>
            <a:ext cx="8229600" cy="15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176CE-E8DE-49EA-A7F2-9EFA1AB8A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856800"/>
            <a:ext cx="8229600" cy="8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87320"/>
            <a:ext cx="4015800" cy="15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87320"/>
            <a:ext cx="4015800" cy="15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381480"/>
            <a:ext cx="4015800" cy="15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3381480"/>
            <a:ext cx="4015800" cy="15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67429-5573-4758-8BC3-22F8FA19E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856800"/>
            <a:ext cx="8229600" cy="8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87320"/>
            <a:ext cx="2649600" cy="15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1687320"/>
            <a:ext cx="2649600" cy="15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1687320"/>
            <a:ext cx="2649600" cy="15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3381480"/>
            <a:ext cx="2649600" cy="15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3381480"/>
            <a:ext cx="2649600" cy="15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3381480"/>
            <a:ext cx="2649600" cy="15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0A4FE-E583-4C52-8FE2-BE7CC6EC0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0710E-CB27-45CE-B5CF-8D6F7847A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856800"/>
            <a:ext cx="8229600" cy="8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87320"/>
            <a:ext cx="8229600" cy="324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F9A2A-5D1B-446F-9569-B8153E3FF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856800"/>
            <a:ext cx="8229600" cy="8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87320"/>
            <a:ext cx="8229600" cy="324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61A32-7203-40C9-A3CB-F64D57658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856800"/>
            <a:ext cx="8229600" cy="8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87320"/>
            <a:ext cx="4015800" cy="324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87320"/>
            <a:ext cx="4015800" cy="324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33C81-0B34-41EC-8E7D-BA6F6068E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856800"/>
            <a:ext cx="8229600" cy="8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A6FF2-1723-4B90-A833-21838BD0D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856800"/>
            <a:ext cx="8229600" cy="371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7D11E-6E7F-4C5C-9A81-AFD4FBF79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856800"/>
            <a:ext cx="8229600" cy="8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87320"/>
            <a:ext cx="4015800" cy="15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87320"/>
            <a:ext cx="4015800" cy="324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381480"/>
            <a:ext cx="4015800" cy="15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F7F2D-8899-4336-8E50-37BE2500D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856800"/>
            <a:ext cx="8229600" cy="8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1687320"/>
            <a:ext cx="8229600" cy="324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A5997-A92C-4724-B631-59DF86CA6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856800"/>
            <a:ext cx="8229600" cy="8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87320"/>
            <a:ext cx="4015800" cy="324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87320"/>
            <a:ext cx="4015800" cy="15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381480"/>
            <a:ext cx="4015800" cy="15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B2AC3-481C-4DD6-B5D3-EA639F1F8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856800"/>
            <a:ext cx="8229600" cy="8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87320"/>
            <a:ext cx="4015800" cy="15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87320"/>
            <a:ext cx="4015800" cy="15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381480"/>
            <a:ext cx="8229600" cy="15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F211A-EBEA-403E-912B-55C561FDA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856800"/>
            <a:ext cx="8229600" cy="8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87320"/>
            <a:ext cx="8229600" cy="15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381480"/>
            <a:ext cx="8229600" cy="15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5F735-A594-4F18-8735-AC731CE62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856800"/>
            <a:ext cx="8229600" cy="8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87320"/>
            <a:ext cx="4015800" cy="15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87320"/>
            <a:ext cx="4015800" cy="15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381480"/>
            <a:ext cx="4015800" cy="15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381480"/>
            <a:ext cx="4015800" cy="15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C2561-D7A6-415C-9199-E91E3F342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856800"/>
            <a:ext cx="8229600" cy="8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87320"/>
            <a:ext cx="2649600" cy="15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87320"/>
            <a:ext cx="2649600" cy="15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87320"/>
            <a:ext cx="2649600" cy="15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381480"/>
            <a:ext cx="2649600" cy="15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381480"/>
            <a:ext cx="2649600" cy="15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381480"/>
            <a:ext cx="2649600" cy="15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E0967-B688-4C13-8C3A-03DFF2FBC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92BF1A2-C999-48CE-99F3-6E85A331A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856800"/>
            <a:ext cx="8229600" cy="8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687320"/>
            <a:ext cx="8229600" cy="324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3CCF312-1D01-4DC9-88B1-912ACE42B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856800"/>
            <a:ext cx="8229600" cy="8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87320"/>
            <a:ext cx="8229600" cy="324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4A8B3F2-10E2-46C2-B236-21827C191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856800"/>
            <a:ext cx="8229600" cy="8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87320"/>
            <a:ext cx="4015800" cy="324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87320"/>
            <a:ext cx="4015800" cy="324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24F161D-57FE-499B-BA0E-3C2BF48E9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856800"/>
            <a:ext cx="8229600" cy="8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5ADA343-FA71-4554-A335-80581CFD9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856800"/>
            <a:ext cx="8229600" cy="8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87320"/>
            <a:ext cx="8229600" cy="324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CEF5C-D46D-40BA-AA23-EF4DFFB1E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856800"/>
            <a:ext cx="8229600" cy="371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0CB0F53-2530-4EB0-9DC8-B9ACC7506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856800"/>
            <a:ext cx="8229600" cy="8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87320"/>
            <a:ext cx="4015800" cy="15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87320"/>
            <a:ext cx="4015800" cy="324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381480"/>
            <a:ext cx="4015800" cy="15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086535-8EB2-49DA-B9EB-4A13E3FD5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856800"/>
            <a:ext cx="8229600" cy="8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87320"/>
            <a:ext cx="4015800" cy="324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87320"/>
            <a:ext cx="4015800" cy="15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381480"/>
            <a:ext cx="4015800" cy="15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923DBFD-A08C-42BD-BB08-63E8E505A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856800"/>
            <a:ext cx="8229600" cy="8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87320"/>
            <a:ext cx="4015800" cy="15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87320"/>
            <a:ext cx="4015800" cy="15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381480"/>
            <a:ext cx="8229600" cy="15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03E38E7-942B-4648-8B15-0451406C2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856800"/>
            <a:ext cx="8229600" cy="8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87320"/>
            <a:ext cx="8229600" cy="15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381480"/>
            <a:ext cx="8229600" cy="15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BFC4E08-1E60-4B34-94DF-3C12244E0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856800"/>
            <a:ext cx="8229600" cy="8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87320"/>
            <a:ext cx="4015800" cy="15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87320"/>
            <a:ext cx="4015800" cy="15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381480"/>
            <a:ext cx="4015800" cy="15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381480"/>
            <a:ext cx="4015800" cy="15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EC8F3EC-1E7F-4368-A626-40633C73B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856800"/>
            <a:ext cx="8229600" cy="8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87320"/>
            <a:ext cx="2649600" cy="15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687320"/>
            <a:ext cx="2649600" cy="15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687320"/>
            <a:ext cx="2649600" cy="15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381480"/>
            <a:ext cx="2649600" cy="15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381480"/>
            <a:ext cx="2649600" cy="15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381480"/>
            <a:ext cx="2649600" cy="15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CA768FC-1F8B-4796-84E4-7E4ECA0D7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F3484A-AA0C-4EB5-9C0C-E14C377CA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856800"/>
            <a:ext cx="8229600" cy="8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687320"/>
            <a:ext cx="8229600" cy="324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0B6ACC-4187-490E-B3CA-E5A43C85B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856800"/>
            <a:ext cx="8229600" cy="8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87320"/>
            <a:ext cx="8229600" cy="324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1DF95F-5D36-4BDB-B591-8680A2345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856800"/>
            <a:ext cx="8229600" cy="8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87320"/>
            <a:ext cx="4015800" cy="324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87320"/>
            <a:ext cx="4015800" cy="324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91762-7276-4EE4-8F29-567B35051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856800"/>
            <a:ext cx="8229600" cy="8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87320"/>
            <a:ext cx="4015800" cy="324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87320"/>
            <a:ext cx="4015800" cy="324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518429-2D99-42B0-87FC-1C350EB58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856800"/>
            <a:ext cx="8229600" cy="8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38AE1C-0DC2-49D8-905E-2C03AD8AB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856800"/>
            <a:ext cx="8229600" cy="371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80D34C-EAF2-49E9-AF82-0314F54F4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856800"/>
            <a:ext cx="8229600" cy="8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87320"/>
            <a:ext cx="4015800" cy="15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87320"/>
            <a:ext cx="4015800" cy="324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381480"/>
            <a:ext cx="4015800" cy="15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00A752-831D-4332-89F9-C75A3AF7F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856800"/>
            <a:ext cx="8229600" cy="8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87320"/>
            <a:ext cx="4015800" cy="324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87320"/>
            <a:ext cx="4015800" cy="15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3381480"/>
            <a:ext cx="4015800" cy="15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5809E7-70B9-45BE-A8FF-6BB6D0F19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856800"/>
            <a:ext cx="8229600" cy="8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87320"/>
            <a:ext cx="4015800" cy="15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87320"/>
            <a:ext cx="4015800" cy="15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381480"/>
            <a:ext cx="8229600" cy="15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810592-16AB-4357-A76D-077ED901B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856800"/>
            <a:ext cx="8229600" cy="8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87320"/>
            <a:ext cx="8229600" cy="15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3381480"/>
            <a:ext cx="8229600" cy="15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60F721-119C-4E37-B3DA-4631BC7FC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856800"/>
            <a:ext cx="8229600" cy="8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87320"/>
            <a:ext cx="4015800" cy="15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87320"/>
            <a:ext cx="4015800" cy="15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3381480"/>
            <a:ext cx="4015800" cy="15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3381480"/>
            <a:ext cx="4015800" cy="15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130FAE-6195-447D-8CD5-634582728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856800"/>
            <a:ext cx="8229600" cy="8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87320"/>
            <a:ext cx="2649600" cy="15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687320"/>
            <a:ext cx="2649600" cy="15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687320"/>
            <a:ext cx="2649600" cy="15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3381480"/>
            <a:ext cx="2649600" cy="15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3381480"/>
            <a:ext cx="2649600" cy="15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3381480"/>
            <a:ext cx="2649600" cy="15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A66A27-AADC-495A-8D35-48909C0D2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856800"/>
            <a:ext cx="8229600" cy="8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A31BD-ECC6-46F2-92ED-42B47FF32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856800"/>
            <a:ext cx="8229600" cy="371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DE255-7809-42ED-A602-BC9062498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856800"/>
            <a:ext cx="8229600" cy="8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87320"/>
            <a:ext cx="4015800" cy="15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87320"/>
            <a:ext cx="4015800" cy="324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381480"/>
            <a:ext cx="4015800" cy="15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A01D7-64EA-46FB-8CA3-FD72DAB2F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856800"/>
            <a:ext cx="8229600" cy="8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87320"/>
            <a:ext cx="4015800" cy="324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87320"/>
            <a:ext cx="4015800" cy="15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3381480"/>
            <a:ext cx="4015800" cy="15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B2B38-7168-4497-9353-2F654F781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856800"/>
            <a:ext cx="8229600" cy="8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87320"/>
            <a:ext cx="4015800" cy="15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87320"/>
            <a:ext cx="4015800" cy="15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381480"/>
            <a:ext cx="8229600" cy="15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160CB-3EAA-4AAE-9D77-399820673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27"/>
          <p:cNvSpPr/>
          <p:nvPr/>
        </p:nvSpPr>
        <p:spPr>
          <a:xfrm>
            <a:off x="0" y="274680"/>
            <a:ext cx="9144000" cy="6336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Прямоугольник 28"/>
          <p:cNvSpPr/>
          <p:nvPr/>
        </p:nvSpPr>
        <p:spPr>
          <a:xfrm>
            <a:off x="0" y="0"/>
            <a:ext cx="9144000" cy="2332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Прямоугольник 29"/>
          <p:cNvSpPr/>
          <p:nvPr/>
        </p:nvSpPr>
        <p:spPr>
          <a:xfrm>
            <a:off x="0" y="231840"/>
            <a:ext cx="9144000" cy="6804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Прямоугольник 30"/>
          <p:cNvSpPr/>
          <p:nvPr/>
        </p:nvSpPr>
        <p:spPr>
          <a:xfrm flipV="1">
            <a:off x="5410080" y="268920"/>
            <a:ext cx="3733920" cy="6804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Прямоугольник 31"/>
          <p:cNvSpPr/>
          <p:nvPr/>
        </p:nvSpPr>
        <p:spPr>
          <a:xfrm flipV="1">
            <a:off x="5410080" y="329040"/>
            <a:ext cx="3733920" cy="13500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Скругленный прямоугольник 32"/>
          <p:cNvSpPr/>
          <p:nvPr/>
        </p:nvSpPr>
        <p:spPr>
          <a:xfrm>
            <a:off x="5407200" y="372960"/>
            <a:ext cx="3063600" cy="208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360" bIns="-27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Скругленный прямоугольник 33"/>
          <p:cNvSpPr/>
          <p:nvPr/>
        </p:nvSpPr>
        <p:spPr>
          <a:xfrm>
            <a:off x="7373880" y="441360"/>
            <a:ext cx="1600200" cy="284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520" bIns="-20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Прямоугольник 34"/>
          <p:cNvSpPr/>
          <p:nvPr/>
        </p:nvSpPr>
        <p:spPr>
          <a:xfrm>
            <a:off x="9085320" y="-1440"/>
            <a:ext cx="57240" cy="46656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Прямоугольник 35"/>
          <p:cNvSpPr/>
          <p:nvPr/>
        </p:nvSpPr>
        <p:spPr>
          <a:xfrm>
            <a:off x="9043920" y="-1440"/>
            <a:ext cx="28800" cy="46656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Прямоугольник 36"/>
          <p:cNvSpPr/>
          <p:nvPr/>
        </p:nvSpPr>
        <p:spPr>
          <a:xfrm>
            <a:off x="9024840" y="-1440"/>
            <a:ext cx="9720" cy="46656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Прямоугольник 37"/>
          <p:cNvSpPr/>
          <p:nvPr/>
        </p:nvSpPr>
        <p:spPr>
          <a:xfrm>
            <a:off x="8975880" y="-1440"/>
            <a:ext cx="27000" cy="46656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Прямоугольник 38"/>
          <p:cNvSpPr/>
          <p:nvPr/>
        </p:nvSpPr>
        <p:spPr>
          <a:xfrm>
            <a:off x="8915400" y="0"/>
            <a:ext cx="55440" cy="43956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Прямоугольник 39"/>
          <p:cNvSpPr/>
          <p:nvPr/>
        </p:nvSpPr>
        <p:spPr>
          <a:xfrm>
            <a:off x="8874000" y="0"/>
            <a:ext cx="7920" cy="43956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856800"/>
            <a:ext cx="8229600" cy="8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1687320"/>
            <a:ext cx="8229600" cy="324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57480" indent="-2502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44040" indent="-24120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03600" indent="-2142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55600" indent="-1954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61160" indent="-17892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61160" indent="-17892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61160" indent="-17892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458280"/>
            <a:ext cx="95724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458280"/>
            <a:ext cx="1325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2D653-51E4-4BB8-A1BE-C4D8D4FA4670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9"/>
          <p:cNvSpPr/>
          <p:nvPr/>
        </p:nvSpPr>
        <p:spPr>
          <a:xfrm flipV="1">
            <a:off x="5410080" y="2856600"/>
            <a:ext cx="3733920" cy="6804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Прямоугольник 20"/>
          <p:cNvSpPr/>
          <p:nvPr/>
        </p:nvSpPr>
        <p:spPr>
          <a:xfrm flipV="1">
            <a:off x="5410080" y="2922120"/>
            <a:ext cx="3733920" cy="14472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Прямоугольник 21"/>
          <p:cNvSpPr/>
          <p:nvPr/>
        </p:nvSpPr>
        <p:spPr>
          <a:xfrm flipV="1">
            <a:off x="5410080" y="3085560"/>
            <a:ext cx="3733920" cy="612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Прямоугольник 23"/>
          <p:cNvSpPr/>
          <p:nvPr/>
        </p:nvSpPr>
        <p:spPr>
          <a:xfrm flipV="1">
            <a:off x="5410080" y="3122640"/>
            <a:ext cx="1965600" cy="1440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Прямоугольник 24"/>
          <p:cNvSpPr/>
          <p:nvPr/>
        </p:nvSpPr>
        <p:spPr>
          <a:xfrm flipV="1">
            <a:off x="5410080" y="3149640"/>
            <a:ext cx="1965600" cy="648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Скругленный прямоугольник 25"/>
          <p:cNvSpPr/>
          <p:nvPr/>
        </p:nvSpPr>
        <p:spPr>
          <a:xfrm>
            <a:off x="5410080" y="2971800"/>
            <a:ext cx="3063960" cy="205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Скругленный прямоугольник 26"/>
          <p:cNvSpPr/>
          <p:nvPr/>
        </p:nvSpPr>
        <p:spPr>
          <a:xfrm>
            <a:off x="7377120" y="3046320"/>
            <a:ext cx="160020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Прямоугольник 40"/>
          <p:cNvSpPr/>
          <p:nvPr/>
        </p:nvSpPr>
        <p:spPr>
          <a:xfrm>
            <a:off x="0" y="2736720"/>
            <a:ext cx="9144000" cy="18432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Прямоугольник 41"/>
          <p:cNvSpPr/>
          <p:nvPr/>
        </p:nvSpPr>
        <p:spPr>
          <a:xfrm>
            <a:off x="0" y="2755800"/>
            <a:ext cx="9144000" cy="1065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Прямоугольник 42"/>
          <p:cNvSpPr/>
          <p:nvPr/>
        </p:nvSpPr>
        <p:spPr>
          <a:xfrm flipV="1">
            <a:off x="6413400" y="2731680"/>
            <a:ext cx="2730600" cy="18720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Прямоугольник 43"/>
          <p:cNvSpPr/>
          <p:nvPr/>
        </p:nvSpPr>
        <p:spPr>
          <a:xfrm>
            <a:off x="0" y="0"/>
            <a:ext cx="9144000" cy="27766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856800"/>
            <a:ext cx="8229600" cy="8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87320"/>
            <a:ext cx="8229600" cy="324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57480" indent="-2502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44040" indent="-24120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03600" indent="-2142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55600" indent="-1954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61160" indent="-17892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61160" indent="-17892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61160" indent="-17892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3153960"/>
            <a:ext cx="96048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3153960"/>
            <a:ext cx="129564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2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8BE61-099B-463D-A10F-95C779C8D5F9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27"/>
          <p:cNvSpPr/>
          <p:nvPr/>
        </p:nvSpPr>
        <p:spPr>
          <a:xfrm>
            <a:off x="0" y="274680"/>
            <a:ext cx="9144000" cy="6336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Прямоугольник 28"/>
          <p:cNvSpPr/>
          <p:nvPr/>
        </p:nvSpPr>
        <p:spPr>
          <a:xfrm>
            <a:off x="0" y="0"/>
            <a:ext cx="9144000" cy="2332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Прямоугольник 29"/>
          <p:cNvSpPr/>
          <p:nvPr/>
        </p:nvSpPr>
        <p:spPr>
          <a:xfrm>
            <a:off x="0" y="231840"/>
            <a:ext cx="9144000" cy="6804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Прямоугольник 30"/>
          <p:cNvSpPr/>
          <p:nvPr/>
        </p:nvSpPr>
        <p:spPr>
          <a:xfrm flipV="1">
            <a:off x="5410080" y="268920"/>
            <a:ext cx="3733920" cy="6804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Прямоугольник 31"/>
          <p:cNvSpPr/>
          <p:nvPr/>
        </p:nvSpPr>
        <p:spPr>
          <a:xfrm flipV="1">
            <a:off x="5410080" y="329040"/>
            <a:ext cx="3733920" cy="13500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Скругленный прямоугольник 32"/>
          <p:cNvSpPr/>
          <p:nvPr/>
        </p:nvSpPr>
        <p:spPr>
          <a:xfrm>
            <a:off x="5407200" y="372960"/>
            <a:ext cx="3063600" cy="208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360" bIns="-27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Скругленный прямоугольник 33"/>
          <p:cNvSpPr/>
          <p:nvPr/>
        </p:nvSpPr>
        <p:spPr>
          <a:xfrm>
            <a:off x="7373880" y="441360"/>
            <a:ext cx="1600200" cy="284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520" bIns="-20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Прямоугольник 34"/>
          <p:cNvSpPr/>
          <p:nvPr/>
        </p:nvSpPr>
        <p:spPr>
          <a:xfrm>
            <a:off x="9085320" y="-1440"/>
            <a:ext cx="57240" cy="46656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Прямоугольник 35"/>
          <p:cNvSpPr/>
          <p:nvPr/>
        </p:nvSpPr>
        <p:spPr>
          <a:xfrm>
            <a:off x="9043920" y="-1440"/>
            <a:ext cx="28800" cy="46656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Прямоугольник 36"/>
          <p:cNvSpPr/>
          <p:nvPr/>
        </p:nvSpPr>
        <p:spPr>
          <a:xfrm>
            <a:off x="9024840" y="-1440"/>
            <a:ext cx="9720" cy="46656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Прямоугольник 37"/>
          <p:cNvSpPr/>
          <p:nvPr/>
        </p:nvSpPr>
        <p:spPr>
          <a:xfrm>
            <a:off x="8975880" y="-1440"/>
            <a:ext cx="27000" cy="46656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Прямоугольник 38"/>
          <p:cNvSpPr/>
          <p:nvPr/>
        </p:nvSpPr>
        <p:spPr>
          <a:xfrm>
            <a:off x="8915400" y="0"/>
            <a:ext cx="55440" cy="43956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Прямоугольник 39"/>
          <p:cNvSpPr/>
          <p:nvPr/>
        </p:nvSpPr>
        <p:spPr>
          <a:xfrm>
            <a:off x="8874000" y="0"/>
            <a:ext cx="7920" cy="43956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856800"/>
            <a:ext cx="8229600" cy="8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1687320"/>
            <a:ext cx="8229600" cy="324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57480" indent="-2502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44040" indent="-24120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03600" indent="-2142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55600" indent="-1954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61160" indent="-17892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61160" indent="-17892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61160" indent="-17892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458280"/>
            <a:ext cx="95724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FBA00-162E-4E96-A029-83765CFB47B6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458280"/>
            <a:ext cx="1325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Прямоугольник 27"/>
          <p:cNvSpPr/>
          <p:nvPr/>
        </p:nvSpPr>
        <p:spPr>
          <a:xfrm>
            <a:off x="0" y="274680"/>
            <a:ext cx="9144000" cy="6336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Прямоугольник 28"/>
          <p:cNvSpPr/>
          <p:nvPr/>
        </p:nvSpPr>
        <p:spPr>
          <a:xfrm>
            <a:off x="0" y="0"/>
            <a:ext cx="9144000" cy="2332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Прямоугольник 29"/>
          <p:cNvSpPr/>
          <p:nvPr/>
        </p:nvSpPr>
        <p:spPr>
          <a:xfrm>
            <a:off x="0" y="231840"/>
            <a:ext cx="9144000" cy="6804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Прямоугольник 30"/>
          <p:cNvSpPr/>
          <p:nvPr/>
        </p:nvSpPr>
        <p:spPr>
          <a:xfrm flipV="1">
            <a:off x="5410080" y="268920"/>
            <a:ext cx="3733920" cy="6804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Прямоугольник 31"/>
          <p:cNvSpPr/>
          <p:nvPr/>
        </p:nvSpPr>
        <p:spPr>
          <a:xfrm flipV="1">
            <a:off x="5410080" y="329040"/>
            <a:ext cx="3733920" cy="13500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Скругленный прямоугольник 32"/>
          <p:cNvSpPr/>
          <p:nvPr/>
        </p:nvSpPr>
        <p:spPr>
          <a:xfrm>
            <a:off x="5407200" y="372960"/>
            <a:ext cx="3063600" cy="208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360" bIns="-27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Скругленный прямоугольник 33"/>
          <p:cNvSpPr/>
          <p:nvPr/>
        </p:nvSpPr>
        <p:spPr>
          <a:xfrm>
            <a:off x="7373880" y="441360"/>
            <a:ext cx="1600200" cy="284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520" bIns="-20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Прямоугольник 34"/>
          <p:cNvSpPr/>
          <p:nvPr/>
        </p:nvSpPr>
        <p:spPr>
          <a:xfrm>
            <a:off x="9085320" y="-1440"/>
            <a:ext cx="57240" cy="46656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Прямоугольник 35"/>
          <p:cNvSpPr/>
          <p:nvPr/>
        </p:nvSpPr>
        <p:spPr>
          <a:xfrm>
            <a:off x="9043920" y="-1440"/>
            <a:ext cx="28800" cy="46656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Прямоугольник 36"/>
          <p:cNvSpPr/>
          <p:nvPr/>
        </p:nvSpPr>
        <p:spPr>
          <a:xfrm>
            <a:off x="9024840" y="-1440"/>
            <a:ext cx="9720" cy="46656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Прямоугольник 37"/>
          <p:cNvSpPr/>
          <p:nvPr/>
        </p:nvSpPr>
        <p:spPr>
          <a:xfrm>
            <a:off x="8975880" y="-1440"/>
            <a:ext cx="27000" cy="46656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Прямоугольник 38"/>
          <p:cNvSpPr/>
          <p:nvPr/>
        </p:nvSpPr>
        <p:spPr>
          <a:xfrm>
            <a:off x="8915400" y="0"/>
            <a:ext cx="55440" cy="43956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Прямоугольник 39"/>
          <p:cNvSpPr/>
          <p:nvPr/>
        </p:nvSpPr>
        <p:spPr>
          <a:xfrm>
            <a:off x="8874000" y="0"/>
            <a:ext cx="7920" cy="43956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856800"/>
            <a:ext cx="8229600" cy="8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1687320"/>
            <a:ext cx="8229600" cy="324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57480" indent="-2502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44040" indent="-24120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03600" indent="-2142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55600" indent="-1954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61160" indent="-17892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61160" indent="-17892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61160" indent="-17892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458280"/>
            <a:ext cx="95724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458280"/>
            <a:ext cx="1325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691EA-9DB3-421D-87A5-C1B26738F70A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7"/>
          <p:cNvSpPr/>
          <p:nvPr/>
        </p:nvSpPr>
        <p:spPr>
          <a:xfrm>
            <a:off x="119160" y="411120"/>
            <a:ext cx="8926560" cy="18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fffff"/>
                </a:solidFill>
                <a:latin typeface="Tahoma"/>
              </a:rPr>
              <a:t>Новое в антикоррупционном законодательстве Российской Федерации. </a:t>
            </a:r>
            <a:br>
              <a:rPr sz="2900"/>
            </a:br>
            <a:r>
              <a:rPr b="1" lang="ru-RU" sz="2900" spc="-1" strike="noStrike">
                <a:solidFill>
                  <a:srgbClr val="ffffff"/>
                </a:solidFill>
                <a:latin typeface="Tahoma"/>
              </a:rPr>
              <a:t>Некоторые аспекты практики </a:t>
            </a:r>
            <a:br>
              <a:rPr sz="2900"/>
            </a:br>
            <a:r>
              <a:rPr b="1" lang="ru-RU" sz="2900" spc="-1" strike="noStrike">
                <a:solidFill>
                  <a:srgbClr val="ffffff"/>
                </a:solidFill>
                <a:latin typeface="Tahoma"/>
              </a:rPr>
              <a:t>его применения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Text Box 8"/>
          <p:cNvSpPr/>
          <p:nvPr/>
        </p:nvSpPr>
        <p:spPr>
          <a:xfrm>
            <a:off x="4718160" y="3292560"/>
            <a:ext cx="4030560" cy="13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424456"/>
                </a:solidFill>
                <a:latin typeface="Tahoma"/>
              </a:rPr>
              <a:t>Кругленя Анна Николаевна,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424456"/>
                </a:solidFill>
                <a:latin typeface="Tahoma"/>
              </a:rPr>
              <a:t>Управление Президента Российской Федерации по вопросам противодействия коррупции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08000" y="555480"/>
            <a:ext cx="8578800" cy="4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rebuchet MS"/>
              </a:rPr>
              <a:t>Инициатива «на выходе»</a:t>
            </a:r>
            <a:endParaRPr b="0" lang="en-US" sz="18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0" name="Номер слайда 1"/>
          <p:cNvSpPr/>
          <p:nvPr/>
        </p:nvSpPr>
        <p:spPr>
          <a:xfrm>
            <a:off x="8174160" y="1440"/>
            <a:ext cx="76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1C79A-0E15-4087-BEE2-29402EE4EE02}" type="slidenum">
              <a:rPr b="0" lang="ru-RU" sz="18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1" name="TextBox 4"/>
          <p:cNvSpPr/>
          <p:nvPr/>
        </p:nvSpPr>
        <p:spPr>
          <a:xfrm>
            <a:off x="108000" y="987480"/>
            <a:ext cx="885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несение изменений в порядок привлечения государственных и муниципальных служащих к ответственности за совершение коррупционных правонарушений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" name="TextBox 2"/>
          <p:cNvSpPr/>
          <p:nvPr/>
        </p:nvSpPr>
        <p:spPr>
          <a:xfrm>
            <a:off x="611280" y="1924200"/>
            <a:ext cx="79214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«упрощенный порядок» применения взысканий за коррупционные правонарушения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единая «формула» расчета сроков применения взысканий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озможность применения взыскания в виде замечания при малозначительности совершенного коррупционного правонарушения без рекомендации комиссии по урегулированию конфликта интересов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1240" y="555480"/>
            <a:ext cx="8578800" cy="4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rebuchet MS"/>
              </a:rPr>
              <a:t>Организация антикоррупционной работы</a:t>
            </a:r>
            <a:endParaRPr b="0" lang="en-US" sz="18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4" name="Номер слайда 1"/>
          <p:cNvSpPr/>
          <p:nvPr/>
        </p:nvSpPr>
        <p:spPr>
          <a:xfrm>
            <a:off x="8174160" y="1440"/>
            <a:ext cx="76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C6338-E05E-45FB-A54F-354CA52DE0E4}" type="slidenum">
              <a:rPr b="0" lang="ru-RU" sz="18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" name="TextBox 2"/>
          <p:cNvSpPr/>
          <p:nvPr/>
        </p:nvSpPr>
        <p:spPr>
          <a:xfrm>
            <a:off x="382680" y="1203480"/>
            <a:ext cx="842472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олномочия органа субъекта Российской Федерации по профилактике коррупционных и иных правонарушений по проведению антикоррупционных проверок в отношении лиц, замещающих государственные должности субъекта Российской Федерации (для которых федеральными законами не предусмотрено иное), и государственных гражданских служащих субъекта Российской Федерации (в т.ч. аппаратов избирательных комиссий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гарантии организационной и функциональной независимости антикоррупционных структур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овышение квалификации работников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ланы по противодействию коррупции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11240" y="555480"/>
            <a:ext cx="8578800" cy="4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rebuchet MS"/>
              </a:rPr>
              <a:t>Некоторые аспекты содержания антикоррупционной работы</a:t>
            </a:r>
            <a:endParaRPr b="0" lang="en-US" sz="18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7" name="Номер слайда 1"/>
          <p:cNvSpPr/>
          <p:nvPr/>
        </p:nvSpPr>
        <p:spPr>
          <a:xfrm>
            <a:off x="8174160" y="1440"/>
            <a:ext cx="76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D9C16-21AF-471D-9357-A631AD6FDC5A}" type="slidenum">
              <a:rPr b="0" lang="ru-RU" sz="18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8" name="TextBox 2"/>
          <p:cNvSpPr/>
          <p:nvPr/>
        </p:nvSpPr>
        <p:spPr>
          <a:xfrm>
            <a:off x="345960" y="1276200"/>
            <a:ext cx="8655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ыявление и урегулирование конфликта интересов (в том числе скрытой аффилированности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автоматизация работы со сведениями о доходах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уведомление о склонении к совершению коррупционного правонарушения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уведомление о получении подарков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заимодействие с гражданским обществом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9" name="TextBox 3"/>
          <p:cNvSpPr/>
          <p:nvPr/>
        </p:nvSpPr>
        <p:spPr>
          <a:xfrm>
            <a:off x="539640" y="3508200"/>
            <a:ext cx="8267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Обратная связь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– мониторинг проведения антикоррупционной работы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 субъектах Российской Федерации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0" name="TextBox 5"/>
          <p:cNvSpPr/>
          <p:nvPr/>
        </p:nvSpPr>
        <p:spPr>
          <a:xfrm>
            <a:off x="3132000" y="4226040"/>
            <a:ext cx="325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rebuchet MS"/>
              </a:rPr>
              <a:t>Спасибо за внимание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08000" y="555480"/>
            <a:ext cx="8578800" cy="4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rebuchet MS"/>
              </a:rPr>
              <a:t>Новое в антикоррупционном законодательстве</a:t>
            </a:r>
            <a:endParaRPr b="0" lang="en-US" sz="18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7" name="Номер слайда 1"/>
          <p:cNvSpPr/>
          <p:nvPr/>
        </p:nvSpPr>
        <p:spPr>
          <a:xfrm>
            <a:off x="8174160" y="1440"/>
            <a:ext cx="76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B987C-9392-41A9-A5B4-A475905166F4}" type="slidenum">
              <a:rPr b="0" lang="ru-RU" sz="18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Скругленный прямоугольник 3"/>
          <p:cNvSpPr/>
          <p:nvPr/>
        </p:nvSpPr>
        <p:spPr>
          <a:xfrm>
            <a:off x="954000" y="2139840"/>
            <a:ext cx="7058160" cy="1368360"/>
          </a:xfrm>
          <a:prstGeom prst="roundRect">
            <a:avLst>
              <a:gd name="adj" fmla="val 16667"/>
            </a:avLst>
          </a:prstGeom>
          <a:solidFill>
            <a:srgbClr val="d6e9e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член ЦИК России, член избирательной комиссии субъекта РФ, член иной избирательной комиссии (с правом решающего голоса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и работающий на постоянной (штатной) основе) обязаны соблюдать ограничения, запреты, исполнять обязанности, установленные законодательством в сфере противодействия коррупции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TextBox 4"/>
          <p:cNvSpPr/>
          <p:nvPr/>
        </p:nvSpPr>
        <p:spPr>
          <a:xfrm>
            <a:off x="395280" y="987480"/>
            <a:ext cx="842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ahoma"/>
              </a:rPr>
              <a:t>1. В Федеральном законе «Об основных гарантиях избирательных прав и права на участие в референдуме» уточнены антикоррупционные стандарты для членов избирательных комиссий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" name="Скругленный прямоугольник 8"/>
          <p:cNvSpPr/>
          <p:nvPr/>
        </p:nvSpPr>
        <p:spPr>
          <a:xfrm>
            <a:off x="961920" y="3706920"/>
            <a:ext cx="7056720" cy="792000"/>
          </a:xfrm>
          <a:prstGeom prst="roundRect">
            <a:avLst>
              <a:gd name="adj" fmla="val 16667"/>
            </a:avLst>
          </a:prstGeom>
          <a:solidFill>
            <a:srgbClr val="d6e9e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несоблюдение указанных ограничений и запретов, неисполнение обязанностей влечет освобождение данных лиц от должностей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08000" y="555480"/>
            <a:ext cx="8578800" cy="4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rebuchet MS"/>
              </a:rPr>
              <a:t>Новое в антикоррупционном законодательстве</a:t>
            </a:r>
            <a:endParaRPr b="0" lang="en-US" sz="18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2" name="Номер слайда 1"/>
          <p:cNvSpPr/>
          <p:nvPr/>
        </p:nvSpPr>
        <p:spPr>
          <a:xfrm>
            <a:off x="8174160" y="1440"/>
            <a:ext cx="76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8A8E1-78E1-4AAC-B1EE-B12574B6B1F3}" type="slidenum">
              <a:rPr b="0" lang="ru-RU" sz="18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" name="TextBox 4"/>
          <p:cNvSpPr/>
          <p:nvPr/>
        </p:nvSpPr>
        <p:spPr>
          <a:xfrm>
            <a:off x="108000" y="987480"/>
            <a:ext cx="885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ahoma"/>
              </a:rPr>
              <a:t>2. Регламентирован порядок представления сведений о доходах, об имуществе и обязательствах имущественного характера для ряда кандидатов на должности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Скругленный прямоугольник 6"/>
          <p:cNvSpPr/>
          <p:nvPr/>
        </p:nvSpPr>
        <p:spPr>
          <a:xfrm>
            <a:off x="468360" y="1708200"/>
            <a:ext cx="7991280" cy="1511280"/>
          </a:xfrm>
          <a:prstGeom prst="roundRect">
            <a:avLst>
              <a:gd name="adj" fmla="val 16667"/>
            </a:avLst>
          </a:prstGeom>
          <a:solidFill>
            <a:srgbClr val="d9d9d9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Georgia"/>
              </a:rPr>
              <a:t>2.1. Если иное не установлено федеральным законом,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 граждане, претендующие на замещение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Georgia"/>
              </a:rPr>
              <a:t>муниципальной должности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, представляют сведения о доходах высшему должностному лицу субъекта Российской Федерации в порядке, установленном законом субъекта Российской Федерации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По его же решению осуществляется проверка данных сведений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Georgia"/>
              </a:rPr>
              <a:t>(пп.4.2 и 4.4 ст.12.1 Федерального закона «О противодействии коррупции»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" name="Скругленный прямоугольник 2"/>
          <p:cNvSpPr/>
          <p:nvPr/>
        </p:nvSpPr>
        <p:spPr>
          <a:xfrm>
            <a:off x="612720" y="3519360"/>
            <a:ext cx="2016360" cy="1150920"/>
          </a:xfrm>
          <a:prstGeom prst="roundRect">
            <a:avLst>
              <a:gd name="adj" fmla="val 16667"/>
            </a:avLst>
          </a:prstGeom>
          <a:solidFill>
            <a:srgbClr val="ebc0a7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кандидаты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в депутаты представительного органа МО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Скругленный прямоугольник 9"/>
          <p:cNvSpPr/>
          <p:nvPr/>
        </p:nvSpPr>
        <p:spPr>
          <a:xfrm>
            <a:off x="5086440" y="3508200"/>
            <a:ext cx="3373200" cy="1151280"/>
          </a:xfrm>
          <a:prstGeom prst="roundRect">
            <a:avLst>
              <a:gd name="adj" fmla="val 16667"/>
            </a:avLst>
          </a:prstGeom>
          <a:solidFill>
            <a:srgbClr val="ebc0a7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претенденты на должность главы  МО, избираемые представительным органом МО из числа кандидатов, представленных конкурсной комиссией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Скругленный прямоугольник 10"/>
          <p:cNvSpPr/>
          <p:nvPr/>
        </p:nvSpPr>
        <p:spPr>
          <a:xfrm>
            <a:off x="3433680" y="3575160"/>
            <a:ext cx="792360" cy="1084320"/>
          </a:xfrm>
          <a:custGeom>
            <a:avLst/>
            <a:gdLst>
              <a:gd name="textAreaLeft" fmla="*/ 38520 w 792360"/>
              <a:gd name="textAreaRight" fmla="*/ 753840 w 792360"/>
              <a:gd name="textAreaTop" fmla="*/ 38520 h 1084320"/>
              <a:gd name="textAreaBottom" fmla="*/ 1045800 h 1084320"/>
            </a:gdLst>
            <a:ahLst/>
            <a:rect l="textAreaLeft" t="textAreaTop" r="textAreaRight" b="textAreaBottom"/>
            <a:pathLst>
              <a:path w="21600" h="29555">
                <a:moveTo>
                  <a:pt x="3600" y="0"/>
                </a:moveTo>
                <a:arcTo wR="3600" hR="3600" stAng="16200000" swAng="-5400000"/>
                <a:lnTo>
                  <a:pt x="0" y="25955"/>
                </a:lnTo>
                <a:arcTo wR="3600" hR="3600" stAng="10800000" swAng="-5400000"/>
                <a:lnTo>
                  <a:pt x="18000" y="2955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ebc0a7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ВДЛ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____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ИК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Стрелка вправо 7"/>
          <p:cNvSpPr/>
          <p:nvPr/>
        </p:nvSpPr>
        <p:spPr>
          <a:xfrm>
            <a:off x="2660760" y="4118040"/>
            <a:ext cx="758880" cy="358560"/>
          </a:xfrm>
          <a:prstGeom prst="rightArrow">
            <a:avLst>
              <a:gd name="adj1" fmla="val 50000"/>
              <a:gd name="adj2" fmla="val 50031"/>
            </a:avLst>
          </a:prstGeom>
          <a:solidFill>
            <a:srgbClr val="d9d9d9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" name="Стрелка вправо 12"/>
          <p:cNvSpPr/>
          <p:nvPr/>
        </p:nvSpPr>
        <p:spPr>
          <a:xfrm rot="10800000">
            <a:off x="4225680" y="3760560"/>
            <a:ext cx="866520" cy="360360"/>
          </a:xfrm>
          <a:prstGeom prst="rightArrow">
            <a:avLst>
              <a:gd name="adj1" fmla="val 50000"/>
              <a:gd name="adj2" fmla="val 49984"/>
            </a:avLst>
          </a:prstGeom>
          <a:solidFill>
            <a:srgbClr val="d9d9d9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08000" y="555480"/>
            <a:ext cx="8578800" cy="4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rebuchet MS"/>
              </a:rPr>
              <a:t>Новое в антикоррупционном законодательстве</a:t>
            </a:r>
            <a:endParaRPr b="0" lang="en-US" sz="18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1" name="Номер слайда 1"/>
          <p:cNvSpPr/>
          <p:nvPr/>
        </p:nvSpPr>
        <p:spPr>
          <a:xfrm>
            <a:off x="8174160" y="1440"/>
            <a:ext cx="76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56C9C-5773-4AF7-A35D-018E5435073A}" type="slidenum">
              <a:rPr b="0" lang="ru-RU" sz="18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Скругленный прямоугольник 6"/>
          <p:cNvSpPr/>
          <p:nvPr/>
        </p:nvSpPr>
        <p:spPr>
          <a:xfrm>
            <a:off x="587520" y="1492200"/>
            <a:ext cx="7897680" cy="1873440"/>
          </a:xfrm>
          <a:prstGeom prst="roundRect">
            <a:avLst>
              <a:gd name="adj" fmla="val 16667"/>
            </a:avLst>
          </a:prstGeom>
          <a:solidFill>
            <a:srgbClr val="d9d9d9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Georgia"/>
              </a:rPr>
              <a:t>2.2. Г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раждане, претендующие на замещение должности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Georgia"/>
              </a:rPr>
              <a:t>главы местной администрации по контракту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, представляет сведения о доходах высшему должностному лицу субъекта Российской Федерации в порядке, установленном законом субъекта Российской Федерации </a:t>
            </a:r>
            <a:r>
              <a:rPr b="0" i="1" lang="ru-RU" sz="1600" spc="-1" strike="noStrike">
                <a:solidFill>
                  <a:srgbClr val="000000"/>
                </a:solidFill>
                <a:latin typeface="Georgia"/>
              </a:rPr>
              <a:t>(часть 8 статьи 15 Федерального закона «О муниципальной службе в Российской Федерации»)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TextBox 3"/>
          <p:cNvSpPr/>
          <p:nvPr/>
        </p:nvSpPr>
        <p:spPr>
          <a:xfrm>
            <a:off x="522360" y="379584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?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 В конкурсную комиссию соответствующего муниципального образования?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08000" y="555480"/>
            <a:ext cx="8578800" cy="4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rebuchet MS"/>
              </a:rPr>
              <a:t>Новое в антикоррупционном законодательстве</a:t>
            </a:r>
            <a:endParaRPr b="0" lang="en-US" sz="18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5" name="Номер слайда 1"/>
          <p:cNvSpPr/>
          <p:nvPr/>
        </p:nvSpPr>
        <p:spPr>
          <a:xfrm>
            <a:off x="8174160" y="1440"/>
            <a:ext cx="76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B462A-9AFC-4511-9290-9E0D0BB8B1E4}" type="slidenum">
              <a:rPr b="0" lang="ru-RU" sz="18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TextBox 11"/>
          <p:cNvSpPr/>
          <p:nvPr/>
        </p:nvSpPr>
        <p:spPr>
          <a:xfrm>
            <a:off x="108000" y="987480"/>
            <a:ext cx="885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ahoma"/>
              </a:rPr>
              <a:t>3. Скорректирован подход к запрету на участие в управлении некоммерческими организациями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" name="TextBox 2"/>
          <p:cNvSpPr/>
          <p:nvPr/>
        </p:nvSpPr>
        <p:spPr>
          <a:xfrm>
            <a:off x="128520" y="1652760"/>
            <a:ext cx="8713800" cy="32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c00000"/>
                </a:solidFill>
                <a:latin typeface="Tahoma"/>
              </a:rPr>
              <a:t>Разрешается: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- участвовать в управлении политической партией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- участвовать в съезде (конференции) или общем собрании общественной организации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- участвовать в жилищном, жилищно-строительном, гаражном кооперативах, садоводческом, огородническом, дачном потребительских кооперативах, товариществе собственников недвижимости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- участвовать на безвозмездной основе в управлении вышеуказанными некоммерческими организациями (кроме политической партии) в качестве единоличного исполнительного органа или вхождения в состав их коллегиальных органов управления с разрешения представителя нанимателя в порядке, установленном нормативным правовым актом государственного органа либо муниципальным правовым актом (для государственных и муниципальных служащих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- участвовать в управлении советом муниципальных образований субъекта Российской Федерации, иными объединениями муниципальных образований (для государственных и муниципальных должностей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- участвовать в управлении некоммерческой организацией в случаях, предусмотренных федеральными законами, или в соответствии с законодательством Российской Федерации от имени государственного органа или органа местного самоуправления.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08000" y="555480"/>
            <a:ext cx="8578800" cy="4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rebuchet MS"/>
              </a:rPr>
              <a:t>Новое в антикоррупционном законодательстве</a:t>
            </a:r>
            <a:endParaRPr b="0" lang="en-US" sz="18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9" name="Номер слайда 1"/>
          <p:cNvSpPr/>
          <p:nvPr/>
        </p:nvSpPr>
        <p:spPr>
          <a:xfrm>
            <a:off x="8174160" y="1440"/>
            <a:ext cx="76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C8B7B-4A1D-4117-8D72-1C97BF4058A9}" type="slidenum">
              <a:rPr b="0" lang="ru-RU" sz="18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" name="TextBox 4"/>
          <p:cNvSpPr/>
          <p:nvPr/>
        </p:nvSpPr>
        <p:spPr>
          <a:xfrm>
            <a:off x="108000" y="987480"/>
            <a:ext cx="885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ahoma"/>
              </a:rPr>
              <a:t>4. Регламентировано содержание анализа сведений о доходах, об имуществе и обязательствах имущественного характера, а также сведений о соблюдении требований, установленных в целях противодействия коррупции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Скругленный прямоугольник 2"/>
          <p:cNvSpPr/>
          <p:nvPr/>
        </p:nvSpPr>
        <p:spPr>
          <a:xfrm>
            <a:off x="684360" y="2614680"/>
            <a:ext cx="2016000" cy="938160"/>
          </a:xfrm>
          <a:prstGeom prst="roundRect">
            <a:avLst>
              <a:gd name="adj" fmla="val 16667"/>
            </a:avLst>
          </a:prstGeom>
          <a:solidFill>
            <a:srgbClr val="d6e9e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проведение бесед с гражданами и служащими с их согласия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Скругленный прямоугольник 11"/>
          <p:cNvSpPr/>
          <p:nvPr/>
        </p:nvSpPr>
        <p:spPr>
          <a:xfrm>
            <a:off x="3276720" y="2112840"/>
            <a:ext cx="2089080" cy="1224000"/>
          </a:xfrm>
          <a:prstGeom prst="roundRect">
            <a:avLst>
              <a:gd name="adj" fmla="val 16667"/>
            </a:avLst>
          </a:prstGeom>
          <a:solidFill>
            <a:srgbClr val="d6e9e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получение от граждан и служащих с их согласия необходимых пояснений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Скругленный прямоугольник 13"/>
          <p:cNvSpPr/>
          <p:nvPr/>
        </p:nvSpPr>
        <p:spPr>
          <a:xfrm>
            <a:off x="6012000" y="2492280"/>
            <a:ext cx="2706480" cy="1689120"/>
          </a:xfrm>
          <a:prstGeom prst="roundRect">
            <a:avLst>
              <a:gd name="adj" fmla="val 16667"/>
            </a:avLst>
          </a:prstGeom>
          <a:solidFill>
            <a:srgbClr val="d6e9e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получение от государственных органов и органов местного самоуправления, а также организаций необходимой информации (кроме составляющей охраняемую законом тайну)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Скругленный прямоугольник 14"/>
          <p:cNvSpPr/>
          <p:nvPr/>
        </p:nvSpPr>
        <p:spPr>
          <a:xfrm>
            <a:off x="3276720" y="3508200"/>
            <a:ext cx="2160360" cy="1225800"/>
          </a:xfrm>
          <a:prstGeom prst="roundRect">
            <a:avLst>
              <a:gd name="adj" fmla="val 16667"/>
            </a:avLst>
          </a:prstGeom>
          <a:solidFill>
            <a:srgbClr val="d6e9e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изучение представленных пояснений и полученной информации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08000" y="555480"/>
            <a:ext cx="8578800" cy="4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rebuchet MS"/>
              </a:rPr>
              <a:t>Новое в антикоррупционном законодательстве</a:t>
            </a:r>
            <a:endParaRPr b="0" lang="en-US" sz="18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6" name="Номер слайда 1"/>
          <p:cNvSpPr/>
          <p:nvPr/>
        </p:nvSpPr>
        <p:spPr>
          <a:xfrm>
            <a:off x="8174160" y="1440"/>
            <a:ext cx="76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E61E0-8EAC-4C83-8C13-FF9871E06EF8}" type="slidenum">
              <a:rPr b="0" lang="ru-RU" sz="18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TextBox 4"/>
          <p:cNvSpPr/>
          <p:nvPr/>
        </p:nvSpPr>
        <p:spPr>
          <a:xfrm>
            <a:off x="108000" y="987480"/>
            <a:ext cx="885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ahoma"/>
              </a:rPr>
              <a:t>5. Регламентирован срок направления сведений о доходах, расходах, </a:t>
            </a:r>
            <a:br>
              <a:rPr sz="1800"/>
            </a:br>
            <a:r>
              <a:rPr b="0" lang="ru-RU" sz="1800" spc="-1" strike="noStrike" u="sng">
                <a:solidFill>
                  <a:srgbClr val="000000"/>
                </a:solidFill>
                <a:uFillTx/>
                <a:latin typeface="Tahoma"/>
              </a:rPr>
              <a:t>об имуществе и обязательствах имущественного характер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8" name="Скругленный прямоугольник 9"/>
          <p:cNvSpPr/>
          <p:nvPr/>
        </p:nvSpPr>
        <p:spPr>
          <a:xfrm>
            <a:off x="755640" y="1779480"/>
            <a:ext cx="7800840" cy="2592360"/>
          </a:xfrm>
          <a:prstGeom prst="roundRect">
            <a:avLst>
              <a:gd name="adj" fmla="val 16667"/>
            </a:avLst>
          </a:prstGeom>
          <a:solidFill>
            <a:srgbClr val="d9d9d9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Установлен 10-дневный срок, в течение которого кадровая служба федерального государственного органа направляет сведения о доходах в Управление Президента Российской Федерации по вопросам противодействия коррупции / подразделение Аппарата Правительства Российской Федерации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Georgia"/>
              </a:rPr>
              <a:t>(пункт 7 Положения, утвержденного Указом Президента Российской Федерации от 18 мая 2009 г. № 559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08000" y="555480"/>
            <a:ext cx="8578800" cy="4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rebuchet MS"/>
              </a:rPr>
              <a:t>Новое в антикоррупционном законодательстве</a:t>
            </a:r>
            <a:endParaRPr b="0" lang="en-US" sz="18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0" name="Номер слайда 1"/>
          <p:cNvSpPr/>
          <p:nvPr/>
        </p:nvSpPr>
        <p:spPr>
          <a:xfrm>
            <a:off x="8174160" y="1440"/>
            <a:ext cx="76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4DE3E-51C0-498C-91CB-839C6D0BC301}" type="slidenum">
              <a:rPr b="0" lang="ru-RU" sz="18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" name="TextBox 4"/>
          <p:cNvSpPr/>
          <p:nvPr/>
        </p:nvSpPr>
        <p:spPr>
          <a:xfrm>
            <a:off x="108000" y="987480"/>
            <a:ext cx="885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ahoma"/>
              </a:rPr>
              <a:t>6. Установлены требования к содержанию мотивированных заключений, которые готовятся антикоррупционным подразделением по итогам рассмотрения поступивших обращений и уведомлений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" name="Скругленный прямоугольник 2"/>
          <p:cNvSpPr/>
          <p:nvPr/>
        </p:nvSpPr>
        <p:spPr>
          <a:xfrm>
            <a:off x="539640" y="2284560"/>
            <a:ext cx="2303640" cy="1108080"/>
          </a:xfrm>
          <a:prstGeom prst="roundRect">
            <a:avLst>
              <a:gd name="adj" fmla="val 16667"/>
            </a:avLst>
          </a:prstGeom>
          <a:solidFill>
            <a:srgbClr val="d6e9e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информация, изложенная в поступивших обращениях и уведомлениях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" name="Скругленный прямоугольник 13"/>
          <p:cNvSpPr/>
          <p:nvPr/>
        </p:nvSpPr>
        <p:spPr>
          <a:xfrm>
            <a:off x="5508720" y="1778040"/>
            <a:ext cx="2663640" cy="2508120"/>
          </a:xfrm>
          <a:prstGeom prst="roundRect">
            <a:avLst>
              <a:gd name="adj" fmla="val 16667"/>
            </a:avLst>
          </a:prstGeom>
          <a:solidFill>
            <a:srgbClr val="d6e9e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мотивированный вывод по результатам предварительного рассмотрения обращений и уведомлений, а также рекомендация для принятия комиссией по соблюдению требований к служебному поведению и урегулированию конфликта конкретного решения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" name="Скругленный прямоугольник 14"/>
          <p:cNvSpPr/>
          <p:nvPr/>
        </p:nvSpPr>
        <p:spPr>
          <a:xfrm>
            <a:off x="3059280" y="2838600"/>
            <a:ext cx="2160360" cy="1944360"/>
          </a:xfrm>
          <a:prstGeom prst="roundRect">
            <a:avLst>
              <a:gd name="adj" fmla="val 16667"/>
            </a:avLst>
          </a:prstGeom>
          <a:solidFill>
            <a:srgbClr val="d6e9e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информация, полученная от государственных органов, органов местного самоуправления и заинтересованных организаций на основании запросов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08000" y="555480"/>
            <a:ext cx="8578800" cy="4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rebuchet MS"/>
              </a:rPr>
              <a:t>Новое в антикоррупционном законодательстве</a:t>
            </a:r>
            <a:endParaRPr b="0" lang="en-US" sz="18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6" name="Номер слайда 1"/>
          <p:cNvSpPr/>
          <p:nvPr/>
        </p:nvSpPr>
        <p:spPr>
          <a:xfrm>
            <a:off x="8174160" y="1440"/>
            <a:ext cx="76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FB348-D9A4-4D40-8871-BDB7BA910080}" type="slidenum">
              <a:rPr b="0" lang="ru-RU" sz="18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" name="TextBox 4"/>
          <p:cNvSpPr/>
          <p:nvPr/>
        </p:nvSpPr>
        <p:spPr>
          <a:xfrm>
            <a:off x="108000" y="987480"/>
            <a:ext cx="885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ahoma"/>
              </a:rPr>
              <a:t>7. В форму справки о доходах, расходах, об имуществе и обязательствах имущественного характера внесен раздел 7, в котором должны найти отражение сведения о недвижимом имуществе, транспортных средствах и ценных бумагах, отчужденных в течение отчетного периода в результате безвозмездной сделки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" name="Скругленный прямоугольник 9"/>
          <p:cNvSpPr/>
          <p:nvPr/>
        </p:nvSpPr>
        <p:spPr>
          <a:xfrm>
            <a:off x="539640" y="2571840"/>
            <a:ext cx="7993080" cy="1728720"/>
          </a:xfrm>
          <a:prstGeom prst="roundRect">
            <a:avLst>
              <a:gd name="adj" fmla="val 16667"/>
            </a:avLst>
          </a:prstGeom>
          <a:solidFill>
            <a:srgbClr val="d9d9d9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Рекомендации по его заполнению содержатся в подготовленных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Минтрудом России Методических рекомендациях по вопросам представления сведений о доходах, расходах, об имуществе и обязательствах имущественного характера и заполнения соответствующей формы справки в 2018 году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(за отчетный 2017 год)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28T18:13:36Z</dcterms:created>
  <dc:creator>Аня</dc:creator>
  <dc:description/>
  <dc:language>en-US</dc:language>
  <cp:lastModifiedBy> </cp:lastModifiedBy>
  <cp:lastPrinted>2017-12-06T16:02:24Z</cp:lastPrinted>
  <dcterms:modified xsi:type="dcterms:W3CDTF">2017-12-07T05:48:48Z</dcterms:modified>
  <cp:revision>164</cp:revision>
  <dc:subject/>
  <dc:title>Слайд 1</dc:title>
</cp:coreProperties>
</file>