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60684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7960" y="44280"/>
            <a:ext cx="8656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634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000" y="360684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634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0964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4280" y="112500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500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0964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4280" y="3606840"/>
            <a:ext cx="287064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7960" y="44280"/>
            <a:ext cx="86565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60684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125000"/>
            <a:ext cx="43506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606840"/>
            <a:ext cx="8915400" cy="22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8334360" y="5562720"/>
            <a:ext cx="1571760" cy="1295280"/>
          </a:xfrm>
          <a:prstGeom prst="rtTriangl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 rot="10800000">
            <a:off x="507600" y="6165360"/>
            <a:ext cx="8969400" cy="716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996b"/>
          </a:solidFill>
          <a:ln w="9360">
            <a:solidFill>
              <a:srgbClr val="0099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000" y="1125000"/>
            <a:ext cx="8915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lnSpc>
                <a:spcPct val="120000"/>
              </a:lnSpc>
              <a:spcBef>
                <a:spcPts val="400"/>
              </a:spcBef>
              <a:buClr>
                <a:srgbClr val="68dcce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lnSpc>
                <a:spcPct val="120000"/>
              </a:lnSpc>
              <a:spcBef>
                <a:spcPts val="400"/>
              </a:spcBef>
              <a:buClr>
                <a:srgbClr val="68dcce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lnSpc>
                <a:spcPct val="120000"/>
              </a:lnSpc>
              <a:spcBef>
                <a:spcPts val="400"/>
              </a:spcBef>
              <a:buClr>
                <a:srgbClr val="68dcc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8265960" y="5516640"/>
            <a:ext cx="1571760" cy="1295280"/>
          </a:xfrm>
          <a:prstGeom prst="rtTriangle">
            <a:avLst/>
          </a:prstGeom>
          <a:solidFill>
            <a:srgbClr val="0099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71320" rIns="126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974880" y="6307920"/>
            <a:ext cx="649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ctr" pos="2970360"/>
                <a:tab algn="r" pos="594036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6b"/>
                </a:solidFill>
                <a:latin typeface="Arial"/>
              </a:rPr>
              <a:t>©</a:t>
            </a:r>
            <a:r>
              <a:rPr b="1" lang="en-US" sz="1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986b"/>
                </a:solidFill>
                <a:latin typeface="Tahoma"/>
              </a:rPr>
              <a:t>ВЦИОМ,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86b"/>
                </a:solidFill>
                <a:latin typeface="Tahoma"/>
              </a:rPr>
              <a:t>105064</a:t>
            </a:r>
            <a:r>
              <a:rPr b="1" lang="en-US" sz="1000" spc="-1" strike="noStrike">
                <a:solidFill>
                  <a:srgbClr val="00986b"/>
                </a:solidFill>
                <a:latin typeface="Tahoma"/>
                <a:ea typeface="Times New Roman"/>
              </a:rPr>
              <a:t> </a:t>
            </a:r>
            <a:r>
              <a:rPr b="1" lang="en-US" sz="1000" spc="-1" strike="noStrike">
                <a:solidFill>
                  <a:srgbClr val="00986b"/>
                </a:solidFill>
                <a:latin typeface="Tahoma"/>
              </a:rPr>
              <a:t>РФ Москва, ул. Казакова, 16, стр. 2.  Тел./факс: (495) 748-0807, (495) 261-04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41440" y="6324480"/>
            <a:ext cx="433440" cy="3985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 flipH="1" flipV="1" rot="10800000">
            <a:off x="507960" y="836640"/>
            <a:ext cx="9398160" cy="7128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00996b"/>
          </a:solidFill>
          <a:ln w="9360">
            <a:solidFill>
              <a:srgbClr val="0099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9118080" y="-15480"/>
            <a:ext cx="1093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ctr" pos="2970360"/>
                <a:tab algn="r" pos="5940360"/>
                <a:tab algn="r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7222-14D8-4904-B599-36CC798CDE48}" type="slidenum">
              <a:rPr b="1" lang="en-US" sz="1400" spc="-1" strike="noStrike">
                <a:solidFill>
                  <a:srgbClr val="00986b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8624880" y="6453360"/>
            <a:ext cx="1152360" cy="2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Авгу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 rot="10800000">
            <a:off x="6664320" y="3590640"/>
            <a:ext cx="503280" cy="196920"/>
          </a:xfrm>
          <a:custGeom>
            <a:avLst/>
            <a:gdLst/>
            <a:ahLst/>
            <a:rect l="l" t="t" r="r" b="b"/>
            <a:pathLst>
              <a:path w="293" h="124">
                <a:moveTo>
                  <a:pt x="0" y="81"/>
                </a:moveTo>
                <a:cubicBezTo>
                  <a:pt x="36" y="70"/>
                  <a:pt x="66" y="62"/>
                  <a:pt x="104" y="55"/>
                </a:cubicBezTo>
                <a:cubicBezTo>
                  <a:pt x="185" y="0"/>
                  <a:pt x="121" y="19"/>
                  <a:pt x="293" y="30"/>
                </a:cubicBezTo>
                <a:cubicBezTo>
                  <a:pt x="287" y="47"/>
                  <a:pt x="285" y="66"/>
                  <a:pt x="276" y="81"/>
                </a:cubicBezTo>
                <a:cubicBezTo>
                  <a:pt x="266" y="97"/>
                  <a:pt x="251" y="109"/>
                  <a:pt x="241" y="124"/>
                </a:cubicBezTo>
                <a:cubicBezTo>
                  <a:pt x="175" y="121"/>
                  <a:pt x="109" y="121"/>
                  <a:pt x="43" y="116"/>
                </a:cubicBezTo>
                <a:cubicBezTo>
                  <a:pt x="25" y="115"/>
                  <a:pt x="0" y="101"/>
                  <a:pt x="0" y="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8247240" y="3502080"/>
            <a:ext cx="576000" cy="372960"/>
          </a:xfrm>
          <a:custGeom>
            <a:avLst/>
            <a:gdLst/>
            <a:ahLst/>
            <a:rect l="l" t="t" r="r" b="b"/>
            <a:pathLst>
              <a:path w="335" h="235">
                <a:moveTo>
                  <a:pt x="17" y="0"/>
                </a:moveTo>
                <a:cubicBezTo>
                  <a:pt x="66" y="9"/>
                  <a:pt x="94" y="26"/>
                  <a:pt x="146" y="34"/>
                </a:cubicBezTo>
                <a:cubicBezTo>
                  <a:pt x="175" y="79"/>
                  <a:pt x="198" y="56"/>
                  <a:pt x="240" y="86"/>
                </a:cubicBezTo>
                <a:cubicBezTo>
                  <a:pt x="266" y="125"/>
                  <a:pt x="287" y="121"/>
                  <a:pt x="335" y="129"/>
                </a:cubicBezTo>
                <a:cubicBezTo>
                  <a:pt x="321" y="182"/>
                  <a:pt x="295" y="190"/>
                  <a:pt x="249" y="206"/>
                </a:cubicBezTo>
                <a:cubicBezTo>
                  <a:pt x="72" y="198"/>
                  <a:pt x="93" y="235"/>
                  <a:pt x="17" y="154"/>
                </a:cubicBezTo>
                <a:cubicBezTo>
                  <a:pt x="12" y="131"/>
                  <a:pt x="0" y="109"/>
                  <a:pt x="0" y="86"/>
                </a:cubicBezTo>
                <a:cubicBezTo>
                  <a:pt x="0" y="55"/>
                  <a:pt x="17" y="30"/>
                  <a:pt x="17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 rot="10800000">
            <a:off x="5887080" y="3618000"/>
            <a:ext cx="1012680" cy="89064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74680" y="3476520"/>
            <a:ext cx="7836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2319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455c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455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algn="ctr">
              <a:spcBef>
                <a:spcPts val="349"/>
              </a:spcBef>
              <a:buClr>
                <a:srgbClr val="68dcce"/>
              </a:buClr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306440" algn="ctr">
              <a:spcBef>
                <a:spcPts val="349"/>
              </a:spcBef>
              <a:buClr>
                <a:srgbClr val="68dcce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695600" algn="ctr">
              <a:spcBef>
                <a:spcPts val="437"/>
              </a:spcBef>
              <a:buClr>
                <a:srgbClr val="68dcc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695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69560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okamenchuk@wciom.com" TargetMode="External"/><Relationship Id="rId2" Type="http://schemas.openxmlformats.org/officeDocument/2006/relationships/hyperlink" Target="mailto:inform@wciom.com" TargetMode="External"/><Relationship Id="rId3" Type="http://schemas.openxmlformats.org/officeDocument/2006/relationships/hyperlink" Target="http://www.wciom.ru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48880" y="2565000"/>
            <a:ext cx="842004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455c"/>
                </a:solidFill>
                <a:latin typeface="Arial"/>
              </a:rPr>
              <a:t>Институт международного наблюдения за выборами</a:t>
            </a:r>
            <a:r>
              <a:rPr b="1" lang="de-DE" sz="3200" spc="-1" strike="noStrike">
                <a:solidFill>
                  <a:srgbClr val="ff455c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ff455c"/>
                </a:solidFill>
                <a:latin typeface="Arial"/>
              </a:rPr>
              <a:t>взгляд социолога</a:t>
            </a:r>
            <a:endParaRPr b="1" lang="en-US" sz="3200" spc="-1" strike="noStrike">
              <a:solidFill>
                <a:srgbClr val="ff455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15800" y="0"/>
            <a:ext cx="9217080" cy="2060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76160" y="5157720"/>
            <a:ext cx="81378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305280" indent="-305280" algn="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3300"/>
                </a:solidFill>
                <a:latin typeface="Arial"/>
              </a:rPr>
              <a:t>Ольга Каменчук, д.п.н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00"/>
                </a:solidFill>
                <a:latin typeface="Arial"/>
              </a:rPr>
              <a:t>Директор по коммуникац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сероссийский Центр Изучения Общественного Мнения (ВЦИ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31800" y="1052640"/>
            <a:ext cx="8915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ПОЛИТИЧЕСКИЕ ПРЕДПОЧТЕНИЯ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0160" y="981000"/>
            <a:ext cx="3313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Политические предпочт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341360"/>
          <a:ext cx="9906120" cy="48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9906120" cy="48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31800" y="1052640"/>
            <a:ext cx="8915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ЧЕСТНОСТЬ ВЫБОРОВ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880" y="907920"/>
            <a:ext cx="2016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Выборы были честным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708120" y="1557360"/>
          <a:ext cx="919800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120" y="1557360"/>
                    <a:ext cx="919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31800" y="1052640"/>
            <a:ext cx="89154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ТЕНДЕНЦИИ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72880" y="836640"/>
          <a:ext cx="963324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836640"/>
                    <a:ext cx="963324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Избиратели и наблюдатели: два параодкса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557000"/>
            <a:ext cx="8915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51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8080"/>
                </a:solidFill>
                <a:latin typeface="Arial"/>
              </a:rPr>
              <a:t>Доверие к институту международных наблюдателей и недоверие к имеющимся возмож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51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итогов выборов и вероятность фальсификаций на выбо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39800" y="4005360"/>
            <a:ext cx="72741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“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Opinion Dynamics” 20-21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 октября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, 2008.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Телефонный опрос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Выборка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: 1100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зарегистрированных избирателей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.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Статистическая погрешность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 +/-3%. (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Подвыборка из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 936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человек 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1" i="1" lang="ru-RU" sz="1500" spc="-1" strike="noStrike">
                <a:solidFill>
                  <a:srgbClr val="003300"/>
                </a:solidFill>
                <a:latin typeface="Arial"/>
              </a:rPr>
              <a:t>собирающиеся принять участие в выборах</a:t>
            </a:r>
            <a:r>
              <a:rPr b="1" i="1" lang="en-US" sz="1500" spc="-1" strike="noStrike">
                <a:solidFill>
                  <a:srgbClr val="0033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98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00"/>
                </a:solidFill>
                <a:latin typeface="Arial"/>
              </a:rPr>
              <a:t>США: Насколько вероятны, на ваш взгляд, широкомасштабные фальсификации на предстоящих президентских выборах? </a:t>
            </a:r>
            <a:r>
              <a:rPr b="1" i="1" lang="en-US" sz="1700" spc="-1" strike="noStrike">
                <a:solidFill>
                  <a:srgbClr val="003300"/>
                </a:solidFill>
                <a:latin typeface="Arial"/>
              </a:rPr>
              <a:t>(закрытый вопрос, один ответ)</a:t>
            </a:r>
            <a:endParaRPr b="1" lang="en-US" sz="17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15800" y="836640"/>
          <a:ext cx="8569440" cy="532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800" y="836640"/>
                    <a:ext cx="8569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75800" y="1341000"/>
            <a:ext cx="81298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Проблемы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Отсутствие доверия к имеющимся возможностям при позитивном отношении к институту международных наблюд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е соответствие пост-выборных оценок с общественным мн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Текущие электоральные исследования проводятся в различных странах, различными компаниями, с применением различной методологии. Практически отсутствуют исследования, посвященные институту международных наблюдателей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33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невозможно провести сравнительный анали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Решения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88520" y="1125000"/>
            <a:ext cx="43815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Т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местная исследовательск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ценка существующих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04560"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нформирова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304560">
              <a:spcBef>
                <a:spcPts val="400"/>
              </a:spcBef>
              <a:buClr>
                <a:srgbClr val="ff455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ффективн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ие изменения должны быть внесены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 это сдела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028840" y="1125000"/>
            <a:ext cx="438156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реди стран – участниц ОБС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К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руктурированные интерв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кус груп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00"/>
              </a:spcBef>
              <a:buClr>
                <a:srgbClr val="ff455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спертные опро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Контактная информация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31800" y="1628280"/>
            <a:ext cx="81295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3300"/>
                </a:solidFill>
                <a:latin typeface="Arial"/>
              </a:rPr>
              <a:t>Каменчук Ольга Николаевна (д.п.н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3300"/>
                </a:solidFill>
                <a:latin typeface="Arial"/>
              </a:rPr>
              <a:t>Директор по коммуникация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Всероссийский Центр Изучения Общественного Мнения (ВЦИОМ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Россия, Москв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Ул. Казакова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,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Тел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: +7 495 7480807 (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доб</a:t>
            </a:r>
            <a:r>
              <a:rPr b="1" lang="en-US" sz="1400" spc="-1" strike="noStrike">
                <a:solidFill>
                  <a:srgbClr val="003300"/>
                </a:solidFill>
                <a:latin typeface="Arial"/>
              </a:rPr>
              <a:t> 11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okamenchuk@wciom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6699"/>
                </a:solidFill>
                <a:uFillTx/>
                <a:latin typeface="Arial"/>
                <a:hlinkClick r:id="rId2"/>
              </a:rPr>
              <a:t>inform@wciom.com</a:t>
            </a:r>
            <a:r>
              <a:rPr b="1" lang="ru-RU" sz="14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336699"/>
                </a:solidFill>
                <a:uFillTx/>
                <a:latin typeface="Arial"/>
                <a:hlinkClick r:id="rId3"/>
              </a:rPr>
              <a:t>www.wciom.ru</a:t>
            </a:r>
            <a:r>
              <a:rPr b="1" lang="ru-RU" sz="1400" spc="-1" strike="noStrike">
                <a:solidFill>
                  <a:srgbClr val="00996b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Избиратели и наблюдатели: два парадокса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197000"/>
            <a:ext cx="8915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451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рие к институту международных наблюдателей и недоверие к имеющимся возмож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20000"/>
              </a:lnSpc>
              <a:spcBef>
                <a:spcPts val="451"/>
              </a:spcBef>
              <a:buClr>
                <a:srgbClr val="ff455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ценка итогов выборов и вероятность фальсификаций на выбор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52520" y="2349360"/>
            <a:ext cx="72738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интервью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;</a:t>
            </a:r>
            <a:br>
              <a:rPr sz="1500"/>
            </a:b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Выборка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: 1600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респондентов в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40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регионах и республиках РФ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 – </a:t>
            </a: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репрезентативная по полу, возрасту, образованию, сфере занятости, уровню дохода, политическим пристрастиям; Статистическая погрешность</a:t>
            </a:r>
            <a:r>
              <a:rPr b="1" lang="en-US" sz="1500" spc="-1" strike="noStrike">
                <a:solidFill>
                  <a:srgbClr val="003300"/>
                </a:solidFill>
                <a:latin typeface="Arial"/>
              </a:rPr>
              <a:t>: +/- 3,4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75800" y="1916280"/>
            <a:ext cx="81298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ерие к институту международных наблюд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Как Вы оцениваете присутствие международных наблюдателей на выборах в России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закрытый вопрос, не более 2-х ответов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) -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ВОЗРАСТ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907920"/>
          <a:ext cx="990612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612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00"/>
                </a:solidFill>
                <a:latin typeface="Arial"/>
              </a:rPr>
              <a:t>Как Вы оцениваете присутствие международных наблюдателей на выборах в России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закрытый вопрос, не более 2-х ответов</a:t>
            </a:r>
            <a:r>
              <a:rPr b="0" i="1" lang="en-US" sz="1600" spc="-1" strike="noStrike">
                <a:solidFill>
                  <a:srgbClr val="003300"/>
                </a:solidFill>
                <a:latin typeface="Arial"/>
              </a:rPr>
              <a:t>) - </a:t>
            </a:r>
            <a:r>
              <a:rPr b="0" i="1" lang="ru-RU" sz="1600" spc="-1" strike="noStrike">
                <a:solidFill>
                  <a:srgbClr val="003300"/>
                </a:solidFill>
                <a:latin typeface="Arial"/>
              </a:rPr>
              <a:t>ОБРАЗОВАНИЕ</a:t>
            </a:r>
            <a:endParaRPr b="1" lang="en-US" sz="16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907920"/>
          <a:ext cx="990612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612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Кросс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Международные наблюдатели и честность выборов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907920"/>
          <a:ext cx="9906120" cy="532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90612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75800" y="1916280"/>
            <a:ext cx="81298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доверие к имеющимся возможност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(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закрытый вопрос, один ответ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) -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ВОЗРАСТ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0" y="836640"/>
          <a:ext cx="990612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36640"/>
                    <a:ext cx="990612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7960" y="44280"/>
            <a:ext cx="86565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3300"/>
                </a:solidFill>
                <a:latin typeface="Arial"/>
              </a:rPr>
              <a:t>Предположим, что результаты выборов будут подвергнуты сомнению. Чьим заявлениям Вы, прежде всего, поверите?</a:t>
            </a:r>
            <a:r>
              <a:rPr b="1" lang="ru-RU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3300"/>
                </a:solidFill>
                <a:latin typeface="Arial"/>
              </a:rPr>
              <a:t>– </a:t>
            </a:r>
            <a:r>
              <a:rPr b="0" i="1" lang="ru-RU" sz="1500" spc="-1" strike="noStrike">
                <a:solidFill>
                  <a:srgbClr val="003300"/>
                </a:solidFill>
                <a:latin typeface="Arial"/>
              </a:rPr>
              <a:t>ИНТЕРЕС К ПОЛИТИКЕ</a:t>
            </a:r>
            <a:endParaRPr b="1" lang="en-US" sz="15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72880" y="1413000"/>
          <a:ext cx="963324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2880" y="1413000"/>
                    <a:ext cx="963324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7T09:12:25Z</dcterms:created>
  <dc:creator>Львов С.В.</dc:creator>
  <dc:description/>
  <dc:language>en-US</dc:language>
  <cp:lastModifiedBy>kamenchuk</cp:lastModifiedBy>
  <dcterms:modified xsi:type="dcterms:W3CDTF">2008-11-11T12:29:47Z</dcterms:modified>
  <cp:revision>564</cp:revision>
  <dc:subject/>
  <dc:title>преемник</dc:title>
</cp:coreProperties>
</file>