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60684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7960" y="44280"/>
            <a:ext cx="8656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60684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7960" y="44280"/>
            <a:ext cx="8656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8334360" y="5562720"/>
            <a:ext cx="1571760" cy="1295280"/>
          </a:xfrm>
          <a:prstGeom prst="rtTriangl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507600" y="6165360"/>
            <a:ext cx="8969400" cy="716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996b"/>
          </a:solidFill>
          <a:ln w="9360">
            <a:solidFill>
              <a:srgbClr val="0099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125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20000"/>
              </a:lnSpc>
              <a:spcBef>
                <a:spcPts val="400"/>
              </a:spcBef>
              <a:buClr>
                <a:srgbClr val="68dcc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120000"/>
              </a:lnSpc>
              <a:spcBef>
                <a:spcPts val="400"/>
              </a:spcBef>
              <a:buClr>
                <a:srgbClr val="68dcc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20000"/>
              </a:lnSpc>
              <a:spcBef>
                <a:spcPts val="400"/>
              </a:spcBef>
              <a:buClr>
                <a:srgbClr val="68dc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8265960" y="5516640"/>
            <a:ext cx="1571760" cy="1295280"/>
          </a:xfrm>
          <a:prstGeom prst="rtTriangle">
            <a:avLst/>
          </a:prstGeom>
          <a:solidFill>
            <a:srgbClr val="0099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1320" rIns="126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74880" y="6307920"/>
            <a:ext cx="649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ctr" pos="2970360"/>
                <a:tab algn="r" pos="594036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6b"/>
                </a:solidFill>
                <a:latin typeface="Arial"/>
              </a:rPr>
              <a:t>©</a:t>
            </a: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986b"/>
                </a:solidFill>
                <a:latin typeface="Tahoma"/>
              </a:rPr>
              <a:t>ВЦИОМ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86b"/>
                </a:solidFill>
                <a:latin typeface="Tahoma"/>
              </a:rPr>
              <a:t>105064</a:t>
            </a:r>
            <a:r>
              <a:rPr b="1" lang="en-US" sz="1000" spc="-1" strike="noStrike">
                <a:solidFill>
                  <a:srgbClr val="00986b"/>
                </a:solidFill>
                <a:latin typeface="Tahoma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986b"/>
                </a:solidFill>
                <a:latin typeface="Tahoma"/>
              </a:rPr>
              <a:t>РФ Москва, ул. Казакова, 16, стр. 2.  Тел./факс: (495) 748-0807, (495) 261-04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41440" y="6324480"/>
            <a:ext cx="433440" cy="398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flipH="1" flipV="1" rot="10800000">
            <a:off x="507960" y="836640"/>
            <a:ext cx="9398160" cy="712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996b"/>
          </a:solidFill>
          <a:ln w="9360">
            <a:solidFill>
              <a:srgbClr val="0099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118080" y="-1548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C8C9-2D42-4CE7-A398-834791A5DDDB}" type="slidenum">
              <a:rPr b="1" lang="en-US" sz="1400" spc="-1" strike="noStrike">
                <a:solidFill>
                  <a:srgbClr val="00986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624880" y="6453360"/>
            <a:ext cx="1152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Авгу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10800000">
            <a:off x="6664320" y="3590640"/>
            <a:ext cx="503280" cy="196920"/>
          </a:xfrm>
          <a:custGeom>
            <a:avLst/>
            <a:gdLst/>
            <a:ahLst/>
            <a:rect l="l" t="t" r="r" b="b"/>
            <a:pathLst>
              <a:path w="293" h="124">
                <a:moveTo>
                  <a:pt x="0" y="81"/>
                </a:moveTo>
                <a:cubicBezTo>
                  <a:pt x="36" y="70"/>
                  <a:pt x="66" y="62"/>
                  <a:pt x="104" y="55"/>
                </a:cubicBezTo>
                <a:cubicBezTo>
                  <a:pt x="185" y="0"/>
                  <a:pt x="121" y="19"/>
                  <a:pt x="293" y="30"/>
                </a:cubicBezTo>
                <a:cubicBezTo>
                  <a:pt x="287" y="47"/>
                  <a:pt x="285" y="66"/>
                  <a:pt x="276" y="81"/>
                </a:cubicBezTo>
                <a:cubicBezTo>
                  <a:pt x="266" y="97"/>
                  <a:pt x="251" y="109"/>
                  <a:pt x="241" y="124"/>
                </a:cubicBezTo>
                <a:cubicBezTo>
                  <a:pt x="175" y="121"/>
                  <a:pt x="109" y="121"/>
                  <a:pt x="43" y="116"/>
                </a:cubicBezTo>
                <a:cubicBezTo>
                  <a:pt x="25" y="115"/>
                  <a:pt x="0" y="101"/>
                  <a:pt x="0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8247240" y="3502080"/>
            <a:ext cx="576000" cy="372960"/>
          </a:xfrm>
          <a:custGeom>
            <a:avLst/>
            <a:gdLst/>
            <a:ahLst/>
            <a:rect l="l" t="t" r="r" b="b"/>
            <a:pathLst>
              <a:path w="335" h="235">
                <a:moveTo>
                  <a:pt x="17" y="0"/>
                </a:moveTo>
                <a:cubicBezTo>
                  <a:pt x="66" y="9"/>
                  <a:pt x="94" y="26"/>
                  <a:pt x="146" y="34"/>
                </a:cubicBezTo>
                <a:cubicBezTo>
                  <a:pt x="175" y="79"/>
                  <a:pt x="198" y="56"/>
                  <a:pt x="240" y="86"/>
                </a:cubicBezTo>
                <a:cubicBezTo>
                  <a:pt x="266" y="125"/>
                  <a:pt x="287" y="121"/>
                  <a:pt x="335" y="129"/>
                </a:cubicBezTo>
                <a:cubicBezTo>
                  <a:pt x="321" y="182"/>
                  <a:pt x="295" y="190"/>
                  <a:pt x="249" y="206"/>
                </a:cubicBezTo>
                <a:cubicBezTo>
                  <a:pt x="72" y="198"/>
                  <a:pt x="93" y="235"/>
                  <a:pt x="17" y="154"/>
                </a:cubicBezTo>
                <a:cubicBezTo>
                  <a:pt x="12" y="131"/>
                  <a:pt x="0" y="109"/>
                  <a:pt x="0" y="86"/>
                </a:cubicBezTo>
                <a:cubicBezTo>
                  <a:pt x="0" y="55"/>
                  <a:pt x="17" y="30"/>
                  <a:pt x="1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10800000">
            <a:off x="5887080" y="3618000"/>
            <a:ext cx="1012680" cy="890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74680" y="3476520"/>
            <a:ext cx="7836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2319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55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45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algn="ctr">
              <a:spcBef>
                <a:spcPts val="349"/>
              </a:spcBef>
              <a:buClr>
                <a:srgbClr val="68dcce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06440" algn="ctr">
              <a:spcBef>
                <a:spcPts val="349"/>
              </a:spcBef>
              <a:buClr>
                <a:srgbClr val="68dcc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95600" algn="ctr">
              <a:spcBef>
                <a:spcPts val="437"/>
              </a:spcBef>
              <a:buClr>
                <a:srgbClr val="68dcc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695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695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okamenchuk@wciom.com" TargetMode="External"/><Relationship Id="rId2" Type="http://schemas.openxmlformats.org/officeDocument/2006/relationships/hyperlink" Target="mailto:inform@wciom.com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48880" y="2565000"/>
            <a:ext cx="842004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55c"/>
                </a:solidFill>
                <a:latin typeface="Arial"/>
              </a:rPr>
              <a:t>Институт международного наблюдения за выборами</a:t>
            </a:r>
            <a:r>
              <a:rPr b="1" lang="de-DE" sz="3200" spc="-1" strike="noStrike">
                <a:solidFill>
                  <a:srgbClr val="ff455c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455c"/>
                </a:solidFill>
                <a:latin typeface="Arial"/>
              </a:rPr>
              <a:t>взгляд социолога</a:t>
            </a:r>
            <a:endParaRPr b="1" lang="en-US" sz="3200" spc="-1" strike="noStrike">
              <a:solidFill>
                <a:srgbClr val="ff455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5800" y="0"/>
            <a:ext cx="9217080" cy="2060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6160" y="5157720"/>
            <a:ext cx="81378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305280" indent="-305280"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00"/>
                </a:solidFill>
                <a:latin typeface="Arial"/>
              </a:rPr>
              <a:t>Ольга Каменчук, д.п.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Директор по коммуника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сероссийский Центр Изучения Общественного Мнения (ВЦИ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31800" y="1052640"/>
            <a:ext cx="8915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Предположим, что результаты выборов будут подвергнуты сомнению. Чьим заявлениям Вы, прежде всего, поверите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ПОЛИТИЧЕСКИЕ ПРЕДПОЧТЕНИЯ</a:t>
            </a:r>
            <a:endParaRPr b="1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0160" y="981000"/>
            <a:ext cx="331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олитические предпочт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1341360"/>
          <a:ext cx="9906120" cy="48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9061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31800" y="1052640"/>
            <a:ext cx="8915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Предположим, что результаты выборов будут подвергнуты сомнению. Чьим заявлениям Вы, прежде всего, поверите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ЧЕСТНОСТЬ ВЫБОРОВ</a:t>
            </a:r>
            <a:endParaRPr b="1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2880" y="907920"/>
            <a:ext cx="20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Выборы были честны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08120" y="1557360"/>
          <a:ext cx="919800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1557360"/>
                    <a:ext cx="9198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31800" y="1052640"/>
            <a:ext cx="8915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Предположим, что результаты выборов будут подвергнуты сомнению. Чьим заявлениям Вы, прежде всего, поверите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ТЕНДЕНЦИИ</a:t>
            </a:r>
            <a:endParaRPr b="1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2880" y="836640"/>
          <a:ext cx="963324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836640"/>
                    <a:ext cx="963324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збиратели и наблюдатели: два параодкса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557000"/>
            <a:ext cx="8915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451"/>
              </a:spcBef>
              <a:buClr>
                <a:srgbClr val="ff45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Доверие к институту международных наблюдателей и недоверие к имеющимся возмож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51"/>
              </a:spcBef>
              <a:buClr>
                <a:srgbClr val="ff45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итогов выборов и вероятность фальсификаций на выбо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39800" y="4005360"/>
            <a:ext cx="7274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Opinion Dynamics” 20-21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 октября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, 2008.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Телефонный опрос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Выборка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: 1100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зарегистрированных избирателей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Статистическая погрешность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 +/-3%. (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Подвыборка из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 936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человек 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собирающиеся принять участие в выборах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98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00"/>
                </a:solidFill>
                <a:latin typeface="Arial"/>
              </a:rPr>
              <a:t>США: Насколько вероятны, на ваш взгляд, широкомасштабные фальсификации на предстоящих президентских выборах? </a:t>
            </a:r>
            <a:r>
              <a:rPr b="1" i="1" lang="en-US" sz="1700" spc="-1" strike="noStrike">
                <a:solidFill>
                  <a:srgbClr val="003300"/>
                </a:solidFill>
                <a:latin typeface="Arial"/>
              </a:rPr>
              <a:t>(закрытый вопрос, один ответ)</a:t>
            </a:r>
            <a:endParaRPr b="1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15800" y="836640"/>
          <a:ext cx="856944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836640"/>
                    <a:ext cx="8569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75800" y="1341000"/>
            <a:ext cx="81298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роблемы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Отсутствие доверия к имеющимся возможностям при позитивном отношении к институту международных наблюд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е соответствие пост-выборных оценок с общественным мн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Текущие электоральные исследования проводятся в различных странах, различными компаниями, с применением различной методологии. Практически отсутствуют исследования, посвященные институту международных наблюдателей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евозможно провести сравнительный анал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Решения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8520" y="1125000"/>
            <a:ext cx="43815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Т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местная исследовательск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существующих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04560">
              <a:spcBef>
                <a:spcPts val="400"/>
              </a:spcBef>
              <a:buClr>
                <a:srgbClr val="ff455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ирова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04560">
              <a:spcBef>
                <a:spcPts val="400"/>
              </a:spcBef>
              <a:buClr>
                <a:srgbClr val="ff455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изменения должны быть внесен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это сдела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8840" y="1125000"/>
            <a:ext cx="43815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и стран – участниц ОБ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уктурированные интерв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кус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спертные оп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Контактная информация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800" y="1628280"/>
            <a:ext cx="8129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Каменчук Ольга Николаевна (д.п.н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Директор по коммуникац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Всероссийский Центр Изучения Общественного Мнения (ВЦИО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Россия, Моск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Ул. Казакова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,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Тел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: +7 495 7480807 (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доб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1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okamenchuk@wciom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inform@wciom.com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.wciom.ru</a:t>
            </a:r>
            <a:r>
              <a:rPr b="1" lang="ru-RU" sz="1400" spc="-1" strike="noStrike">
                <a:solidFill>
                  <a:srgbClr val="00996b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Избиратели и наблюдатели: два парадокса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451"/>
              </a:spcBef>
              <a:buClr>
                <a:srgbClr val="ff45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рие к институту международных наблюдателей и недоверие к имеющимся возмож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51"/>
              </a:spcBef>
              <a:buClr>
                <a:srgbClr val="ff45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итогов выборов и вероятность фальсификаций на выбо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52520" y="2349360"/>
            <a:ext cx="727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нтервью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;</a:t>
            </a:r>
            <a:br>
              <a:rPr sz="1500"/>
            </a:b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борка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: 1600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респондентов в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40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регионах и республиках РФ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репрезентативная по полу, возрасту, образованию, сфере занятости, уровню дохода, политическим пристрастиям; Статистическая погрешность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: +/- 3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5800" y="1916280"/>
            <a:ext cx="81298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рие к институту международных наблюд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Как Вы оцениваете присутствие международных наблюдателей на выборах в России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закрытый вопрос, не более 2-х ответов</a:t>
            </a:r>
            <a:r>
              <a:rPr b="0" i="1" lang="en-US" sz="1600" spc="-1" strike="noStrike">
                <a:solidFill>
                  <a:srgbClr val="003300"/>
                </a:solidFill>
                <a:latin typeface="Arial"/>
              </a:rPr>
              <a:t>) -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ВОЗРАСТ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907920"/>
          <a:ext cx="990612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90612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Как Вы оцениваете присутствие международных наблюдателей на выборах в России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закрытый вопрос, не более 2-х ответов</a:t>
            </a:r>
            <a:r>
              <a:rPr b="0" i="1" lang="en-US" sz="1600" spc="-1" strike="noStrike">
                <a:solidFill>
                  <a:srgbClr val="003300"/>
                </a:solidFill>
                <a:latin typeface="Arial"/>
              </a:rPr>
              <a:t>) -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ОБРАЗОВАНИЕ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907920"/>
          <a:ext cx="990612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90612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Кросс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ждународные наблюдатели и честность выборов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907920"/>
          <a:ext cx="990612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90612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75800" y="1916280"/>
            <a:ext cx="81298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верие к имеющимся возмож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Предположим, что результаты выборов будут подвергнуты сомнению. Чьим заявлениям Вы, прежде всего, поверите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закрытый вопрос, один ответ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) - 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ВОЗРАСТ</a:t>
            </a:r>
            <a:endParaRPr b="1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836640"/>
          <a:ext cx="990612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9061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Предположим, что результаты выборов будут подвергнуты сомнению. Чьим заявлениям Вы, прежде всего, поверите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ИНТЕРЕС К ПОЛИТИКЕ</a:t>
            </a:r>
            <a:endParaRPr b="1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72880" y="1413000"/>
          <a:ext cx="963324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413000"/>
                    <a:ext cx="963324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09:12:25Z</dcterms:created>
  <dc:creator>Львов С.В.</dc:creator>
  <dc:description/>
  <dc:language>en-US</dc:language>
  <cp:lastModifiedBy>kamenchuk</cp:lastModifiedBy>
  <dcterms:modified xsi:type="dcterms:W3CDTF">2008-11-11T12:29:47Z</dcterms:modified>
  <cp:revision>564</cp:revision>
  <dc:subject/>
  <dc:title>преемник</dc:title>
</cp:coreProperties>
</file>