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jpeg" ContentType="image/jpeg"/>
  <Override PartName="/ppt/media/image14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wmf" ContentType="image/x-wmf"/>
  <Override PartName="/ppt/media/image4.jpeg" ContentType="image/jpeg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907588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B89E-BF8F-4452-9074-656019892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4494-1A8E-4732-962D-D661403B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B2B0-7E8F-4162-AB52-488B1AE98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5656-B4DB-4723-B079-BD24B0380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057F1-72BA-46EE-8FE7-1F99F3E75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FE5CA-9256-469A-86CF-946BEB0F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0DF9-EC5B-43B8-91AC-5901EEF2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7997-2C9B-4511-800D-95453D92F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22C8-A174-467E-A078-C2CCBB5A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894FC-A42C-4B62-B25E-8A93C6D3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A887C-4905-4977-9512-01BB1DB4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8449-CD34-49E4-B399-8B3A0A04D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98824-043B-438F-846E-06545BD5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167D-6FA9-4D33-AB78-E5FEAE74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0018-906C-4324-BF93-58AA0DF7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DEB8-28A2-458E-A3D5-FB6BC890F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A9ECA-4AF0-4715-B544-160C778FC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4BC9-153F-4164-915F-9B8C9632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F0D3-E107-4BE6-A478-E869A22F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CE65-E7F5-4EC7-851A-C1CBDB96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6D04-97C5-4DDB-BC67-0CB5FB02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897D-A598-4FA6-B4CC-0DC5D545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8FBA-9CA6-468E-935C-01132AD27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A0E8-0E7E-4711-A9A1-86D216A2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c95aa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338F-3E64-4211-8EF5-2133B1591F61}" type="slidenum">
              <a:rPr b="0" lang="en-US" sz="1200" spc="-1" strike="noStrike">
                <a:solidFill>
                  <a:srgbClr val="8c95aa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650960" y="1227240"/>
            <a:ext cx="66042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497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6" descr="ZIK_Fon Long.jpg"/>
          <p:cNvPicPr/>
          <p:nvPr/>
        </p:nvPicPr>
        <p:blipFill>
          <a:blip r:embed="rId2"/>
          <a:stretch/>
        </p:blipFill>
        <p:spPr>
          <a:xfrm>
            <a:off x="0" y="3122640"/>
            <a:ext cx="9906120" cy="2949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c95aa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A8D1-9414-4775-860B-171DC578291A}" type="slidenum">
              <a:rPr b="0" lang="en-US" sz="1200" spc="-1" strike="noStrike">
                <a:solidFill>
                  <a:srgbClr val="8c95aa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6" descr="NewTex-footer.jpg"/>
          <p:cNvPicPr/>
          <p:nvPr/>
        </p:nvPicPr>
        <p:blipFill>
          <a:blip r:embed="rId2"/>
          <a:stretch/>
        </p:blipFill>
        <p:spPr>
          <a:xfrm>
            <a:off x="0" y="6215040"/>
            <a:ext cx="9906120" cy="45072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17" descr="NewTex-header 01.jpg"/>
          <p:cNvPicPr/>
          <p:nvPr/>
        </p:nvPicPr>
        <p:blipFill>
          <a:blip r:embed="rId3"/>
          <a:srcRect l="0" t="12028" r="0" b="0"/>
          <a:stretch/>
        </p:blipFill>
        <p:spPr>
          <a:xfrm>
            <a:off x="228600" y="0"/>
            <a:ext cx="9448920" cy="106380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173160" y="6319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CE57A-D81F-4075-BB60-DFB0417B5217}" type="slidenum">
              <a:rPr b="1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16" descr="NewTex-footer.jpg"/>
          <p:cNvPicPr/>
          <p:nvPr/>
        </p:nvPicPr>
        <p:blipFill>
          <a:blip r:embed="rId2"/>
          <a:stretch/>
        </p:blipFill>
        <p:spPr>
          <a:xfrm>
            <a:off x="0" y="6215040"/>
            <a:ext cx="9906120" cy="450720"/>
          </a:xfrm>
          <a:prstGeom prst="rect">
            <a:avLst/>
          </a:prstGeom>
          <a:ln w="0">
            <a:noFill/>
          </a:ln>
        </p:spPr>
      </p:pic>
      <p:sp>
        <p:nvSpPr>
          <p:cNvPr id="126" name="TextBox 2"/>
          <p:cNvSpPr/>
          <p:nvPr/>
        </p:nvSpPr>
        <p:spPr>
          <a:xfrm>
            <a:off x="173160" y="63198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B0F9-643F-4E91-9234-57AA60EF8306}" type="slidenum">
              <a:rPr b="1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10840" y="74520"/>
            <a:ext cx="8985240" cy="398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f497d"/>
                </a:solidFill>
                <a:latin typeface="Arial"/>
              </a:rPr>
              <a:t>Освещение работы Информационного центра ЦИК России</a:t>
            </a:r>
            <a:br>
              <a:rPr sz="4800"/>
            </a:br>
            <a:r>
              <a:rPr b="1" lang="en-US" sz="4800" spc="-1" strike="noStrike">
                <a:solidFill>
                  <a:srgbClr val="1f497d"/>
                </a:solidFill>
                <a:latin typeface="Arial"/>
              </a:rPr>
              <a:t>13-14 марта 2011 года</a:t>
            </a:r>
            <a:endParaRPr b="0" lang="en-US" sz="4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523800" y="5857920"/>
            <a:ext cx="885816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95aa"/>
                </a:solidFill>
                <a:latin typeface="Cambria"/>
              </a:rPr>
              <a:t>Центральная избирательная комиссия Российской Федерации</a:t>
            </a:r>
            <a:endParaRPr b="0" lang="en-US" sz="1800" spc="-1" strike="noStrike">
              <a:solidFill>
                <a:srgbClr val="1f497d"/>
              </a:solidFill>
              <a:latin typeface="Cambri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c95aa"/>
                </a:solidFill>
                <a:latin typeface="Cambria"/>
              </a:rPr>
              <a:t>Москва – 2</a:t>
            </a:r>
            <a:r>
              <a:rPr b="0" lang="en-US" sz="1800" spc="-1" strike="noStrike">
                <a:solidFill>
                  <a:srgbClr val="8c95aa"/>
                </a:solidFill>
                <a:latin typeface="Cambria"/>
              </a:rPr>
              <a:t>0</a:t>
            </a:r>
            <a:r>
              <a:rPr b="0" lang="ru-RU" sz="1800" spc="-1" strike="noStrike">
                <a:solidFill>
                  <a:srgbClr val="8c95aa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167" name="Прямая соединительная линия 4"/>
          <p:cNvSpPr/>
          <p:nvPr/>
        </p:nvSpPr>
        <p:spPr>
          <a:xfrm>
            <a:off x="1881360" y="5857920"/>
            <a:ext cx="6143400" cy="1440"/>
          </a:xfrm>
          <a:prstGeom prst="line">
            <a:avLst/>
          </a:prstGeom>
          <a:ln w="9360">
            <a:solidFill>
              <a:srgbClr val="4f89d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646520" y="520524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646520" y="5205240"/>
            <a:ext cx="64764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8674200" y="22320"/>
            <a:ext cx="879480" cy="87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9" name="Текст 2"/>
          <p:cNvGraphicFramePr/>
          <p:nvPr/>
        </p:nvGraphicFramePr>
        <p:xfrm>
          <a:off x="0" y="906480"/>
          <a:ext cx="9906120" cy="5465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0" name="Текст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906480"/>
                    <a:ext cx="9906120" cy="546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95000" y="1600200"/>
            <a:ext cx="438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674200" y="22320"/>
            <a:ext cx="879480" cy="87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3" name="Текст 2"/>
          <p:cNvGraphicFramePr/>
          <p:nvPr/>
        </p:nvGraphicFramePr>
        <p:xfrm>
          <a:off x="181080" y="1031760"/>
          <a:ext cx="9505800" cy="5322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4" name="Текст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1080" y="1031760"/>
                    <a:ext cx="9505800" cy="53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95000" y="1600200"/>
            <a:ext cx="438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8674200" y="22320"/>
            <a:ext cx="879480" cy="87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7" name="Текст 2"/>
          <p:cNvGraphicFramePr/>
          <p:nvPr/>
        </p:nvGraphicFramePr>
        <p:xfrm>
          <a:off x="0" y="793800"/>
          <a:ext cx="9906120" cy="5624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8" name="Текст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793800"/>
                    <a:ext cx="9906120" cy="56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642960" y="1033560"/>
            <a:ext cx="926316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8674200" y="22320"/>
            <a:ext cx="879480" cy="8794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97000" y="1005480"/>
            <a:ext cx="862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f497d"/>
                </a:solidFill>
                <a:latin typeface="Arial"/>
              </a:rPr>
              <a:t>На сайте Центральной избирательной комиссии Российской Федерации в период 13–14 марта 2011 года было размещено </a:t>
            </a:r>
            <a:r>
              <a:rPr b="1" i="1" lang="en-US" sz="2000" spc="-1" strike="noStrike">
                <a:solidFill>
                  <a:srgbClr val="1f497d"/>
                </a:solidFill>
                <a:latin typeface="Arial"/>
              </a:rPr>
              <a:t>50</a:t>
            </a:r>
            <a:r>
              <a:rPr b="0" i="1" lang="en-US" sz="2000" spc="-1" strike="noStrike">
                <a:solidFill>
                  <a:srgbClr val="1f497d"/>
                </a:solidFill>
                <a:latin typeface="Arial"/>
              </a:rPr>
              <a:t> новостей: из них в разделе «Новости ЦИК России» – </a:t>
            </a:r>
            <a:r>
              <a:rPr b="1" i="1" lang="en-US" sz="2000" spc="-1" strike="noStrike">
                <a:solidFill>
                  <a:srgbClr val="1f497d"/>
                </a:solidFill>
                <a:latin typeface="Arial"/>
              </a:rPr>
              <a:t>22</a:t>
            </a:r>
            <a:r>
              <a:rPr b="0" i="1" lang="en-US" sz="2000" spc="-1" strike="noStrike">
                <a:solidFill>
                  <a:srgbClr val="1f497d"/>
                </a:solidFill>
                <a:latin typeface="Arial"/>
              </a:rPr>
              <a:t> сообщения, в разделе «Новости из регионов» – </a:t>
            </a:r>
            <a:r>
              <a:rPr b="1" i="1" lang="en-US" sz="2000" spc="-1" strike="noStrike">
                <a:solidFill>
                  <a:srgbClr val="1f497d"/>
                </a:solidFill>
                <a:latin typeface="Arial"/>
              </a:rPr>
              <a:t>28</a:t>
            </a:r>
            <a:r>
              <a:rPr b="0" i="1" lang="en-US" sz="2000" spc="-1" strike="noStrike">
                <a:solidFill>
                  <a:srgbClr val="1f49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88880" y="2800440"/>
            <a:ext cx="83124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8674200" y="22320"/>
            <a:ext cx="879480" cy="87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Текст 2"/>
          <p:cNvGraphicFramePr/>
          <p:nvPr/>
        </p:nvGraphicFramePr>
        <p:xfrm>
          <a:off x="206280" y="936720"/>
          <a:ext cx="9474120" cy="5383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5" name="Текст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6280" y="936720"/>
                    <a:ext cx="9474120" cy="538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674200" y="22320"/>
            <a:ext cx="879480" cy="8794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1f497d"/>
                </a:solidFill>
                <a:latin typeface="Arial"/>
              </a:rPr>
              <a:t>Для работы в Информационном центре ЦИК России было аккредитовано </a:t>
            </a:r>
            <a:r>
              <a:rPr b="1" i="1" lang="en-US" sz="3200" spc="-1" strike="noStrike">
                <a:solidFill>
                  <a:srgbClr val="1f497d"/>
                </a:solidFill>
                <a:latin typeface="Arial"/>
              </a:rPr>
              <a:t>13</a:t>
            </a:r>
            <a:r>
              <a:rPr b="0" i="1" lang="en-US" sz="3200" spc="-1" strike="noStrike">
                <a:solidFill>
                  <a:srgbClr val="1f497d"/>
                </a:solidFill>
                <a:latin typeface="Arial"/>
              </a:rPr>
              <a:t> телеканалов, </a:t>
            </a:r>
            <a:r>
              <a:rPr b="1" i="1" lang="en-US" sz="3200" spc="-1" strike="noStrike">
                <a:solidFill>
                  <a:srgbClr val="1f497d"/>
                </a:solidFill>
                <a:latin typeface="Arial"/>
              </a:rPr>
              <a:t>8</a:t>
            </a:r>
            <a:r>
              <a:rPr b="0" i="1" lang="en-US" sz="3200" spc="-1" strike="noStrike">
                <a:solidFill>
                  <a:srgbClr val="1f497d"/>
                </a:solidFill>
                <a:latin typeface="Arial"/>
              </a:rPr>
              <a:t> радиостанций,</a:t>
            </a:r>
            <a:r>
              <a:rPr b="1" i="1" lang="en-US" sz="3200" spc="-1" strike="noStrike">
                <a:solidFill>
                  <a:srgbClr val="1f497d"/>
                </a:solidFill>
                <a:latin typeface="Arial"/>
              </a:rPr>
              <a:t> 8 </a:t>
            </a:r>
            <a:r>
              <a:rPr b="0" i="1" lang="en-US" sz="3200" spc="-1" strike="noStrike">
                <a:solidFill>
                  <a:srgbClr val="1f497d"/>
                </a:solidFill>
                <a:latin typeface="Arial"/>
              </a:rPr>
              <a:t>федеральных газет и </a:t>
            </a:r>
            <a:r>
              <a:rPr b="1" i="1" lang="en-US" sz="3200" spc="-1" strike="noStrike">
                <a:solidFill>
                  <a:srgbClr val="1f497d"/>
                </a:solidFill>
                <a:latin typeface="Arial"/>
              </a:rPr>
              <a:t>6</a:t>
            </a:r>
            <a:r>
              <a:rPr b="0" i="1" lang="en-US" sz="3200" spc="-1" strike="noStrike">
                <a:solidFill>
                  <a:srgbClr val="1f497d"/>
                </a:solidFill>
                <a:latin typeface="Arial"/>
              </a:rPr>
              <a:t> информационных агентств.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243000" y="725400"/>
            <a:ext cx="9262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8674200" y="22320"/>
            <a:ext cx="879480" cy="87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5" name=""/>
          <p:cNvGraphicFramePr/>
          <p:nvPr/>
        </p:nvGraphicFramePr>
        <p:xfrm>
          <a:off x="179280" y="863640"/>
          <a:ext cx="9726840" cy="5659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863640"/>
                    <a:ext cx="9726840" cy="565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8674200" y="22320"/>
            <a:ext cx="879480" cy="87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8" name="Текст 2"/>
          <p:cNvGraphicFramePr/>
          <p:nvPr/>
        </p:nvGraphicFramePr>
        <p:xfrm>
          <a:off x="0" y="811080"/>
          <a:ext cx="9906120" cy="5619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9" name="Текст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811080"/>
                    <a:ext cx="9906120" cy="561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8674200" y="22320"/>
            <a:ext cx="879480" cy="87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" name="Текст 2"/>
          <p:cNvGraphicFramePr/>
          <p:nvPr/>
        </p:nvGraphicFramePr>
        <p:xfrm>
          <a:off x="189000" y="901800"/>
          <a:ext cx="9440640" cy="5514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2" name="Текст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9000" y="901800"/>
                    <a:ext cx="9440640" cy="55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8674200" y="22320"/>
            <a:ext cx="879480" cy="87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4" name="Текст 2"/>
          <p:cNvGraphicFramePr/>
          <p:nvPr/>
        </p:nvGraphicFramePr>
        <p:xfrm>
          <a:off x="231840" y="923760"/>
          <a:ext cx="9448560" cy="5477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5" name="Текст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1840" y="923760"/>
                    <a:ext cx="9448560" cy="547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95000" y="1600200"/>
            <a:ext cx="4381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1f497d"/>
              </a:solidFill>
              <a:latin typeface="Cambri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8674200" y="22320"/>
            <a:ext cx="879480" cy="87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8" name="Текст 2"/>
          <p:cNvGraphicFramePr/>
          <p:nvPr/>
        </p:nvGraphicFramePr>
        <p:xfrm>
          <a:off x="182520" y="870120"/>
          <a:ext cx="9547200" cy="5440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9" name="Текст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520" y="870120"/>
                    <a:ext cx="9547200" cy="54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8674200" y="22320"/>
            <a:ext cx="879480" cy="879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2" name="Текст 2"/>
          <p:cNvGraphicFramePr/>
          <p:nvPr/>
        </p:nvGraphicFramePr>
        <p:xfrm>
          <a:off x="0" y="820800"/>
          <a:ext cx="9906120" cy="5508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3" name="Текст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820800"/>
                    <a:ext cx="990612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195" name="Текст 2"/>
          <p:cNvGraphicFramePr/>
          <p:nvPr/>
        </p:nvGraphicFramePr>
        <p:xfrm>
          <a:off x="0" y="911160"/>
          <a:ext cx="9720360" cy="5405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Текс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1160"/>
                    <a:ext cx="972036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8674200" y="22320"/>
            <a:ext cx="87948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07:23:50Z</dcterms:created>
  <dc:creator>...</dc:creator>
  <dc:description/>
  <dc:language>en-US</dc:language>
  <cp:lastModifiedBy>Полина</cp:lastModifiedBy>
  <dcterms:modified xsi:type="dcterms:W3CDTF">2011-03-21T06:16:50Z</dcterms:modified>
  <cp:revision>313</cp:revision>
  <dc:subject/>
  <dc:title>Слайд 1</dc:title>
</cp:coreProperties>
</file>